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1.xml.rels" ContentType="application/vnd.openxmlformats-package.relationships+xml"/>
  <Override PartName="/ppt/notesSlides/_rels/notesSlide125.xml.rels" ContentType="application/vnd.openxmlformats-package.relationships+xml"/>
  <Override PartName="/ppt/notesSlides/notesSlide125.xml" ContentType="application/vnd.openxmlformats-officedocument.presentationml.notesSlide+xml"/>
  <Override PartName="/ppt/notesSlides/notesSlide20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4.wmf" ContentType="image/x-wmf"/>
  <Override PartName="/ppt/media/image51.png" ContentType="image/png"/>
  <Override PartName="/ppt/media/image6.wmf" ContentType="image/x-wmf"/>
  <Override PartName="/ppt/media/image47.wmf" ContentType="image/x-wmf"/>
  <Override PartName="/ppt/media/image25.png" ContentType="image/png"/>
  <Override PartName="/ppt/media/image5.wmf" ContentType="image/x-wmf"/>
  <Override PartName="/ppt/media/image17.wmf" ContentType="image/x-wmf"/>
  <Override PartName="/ppt/media/image4.wmf" ContentType="image/x-wmf"/>
  <Override PartName="/ppt/media/image27.wmf" ContentType="image/x-wmf"/>
  <Override PartName="/ppt/media/image33.wmf" ContentType="image/x-wmf"/>
  <Override PartName="/ppt/media/image29.png" ContentType="image/png"/>
  <Override PartName="/ppt/media/image26.png" ContentType="image/png"/>
  <Override PartName="/ppt/media/image61.jpeg" ContentType="image/jpeg"/>
  <Override PartName="/ppt/media/image8.wmf" ContentType="image/x-wmf"/>
  <Override PartName="/ppt/media/image40.png" ContentType="image/png"/>
  <Override PartName="/ppt/media/image3.wmf" ContentType="image/x-wmf"/>
  <Override PartName="/ppt/media/image58.png" ContentType="image/png"/>
  <Override PartName="/ppt/media/image21.png" ContentType="image/png"/>
  <Override PartName="/ppt/media/image23.png" ContentType="image/png"/>
  <Override PartName="/ppt/media/image24.png" ContentType="image/png"/>
  <Override PartName="/ppt/media/image59.wmf" ContentType="image/x-wmf"/>
  <Override PartName="/ppt/media/image19.png" ContentType="image/png"/>
  <Override PartName="/ppt/media/image20.png" ContentType="image/png"/>
  <Override PartName="/ppt/media/image22.png" ContentType="image/png"/>
  <Override PartName="/ppt/media/image55.wmf" ContentType="image/x-wmf"/>
  <Override PartName="/ppt/media/image15.png" ContentType="image/png"/>
  <Override PartName="/ppt/media/image18.png" ContentType="image/png"/>
  <Override PartName="/ppt/media/image10.wmf" ContentType="image/x-wmf"/>
  <Override PartName="/ppt/media/image53.png" ContentType="image/png"/>
  <Override PartName="/ppt/media/image2.wmf" ContentType="image/x-wmf"/>
  <Override PartName="/ppt/media/image57.png" ContentType="image/png"/>
  <Override PartName="/ppt/media/image14.wmf" ContentType="image/x-wmf"/>
  <Override PartName="/ppt/media/image16.png" ContentType="image/png"/>
  <Override PartName="/ppt/media/image11.wmf" ContentType="image/x-wmf"/>
  <Override PartName="/ppt/media/image12.png" ContentType="image/png"/>
  <Override PartName="/ppt/media/image49.png" ContentType="image/png"/>
  <Override PartName="/ppt/media/image52.wmf" ContentType="image/x-wmf"/>
  <Override PartName="/ppt/media/image7.wmf" ContentType="image/x-wmf"/>
  <Override PartName="/ppt/media/image37.wmf" ContentType="image/x-wmf"/>
  <Override PartName="/ppt/media/image56.png" ContentType="image/png"/>
  <Override PartName="/ppt/media/image1.wmf" ContentType="image/x-wmf"/>
  <Override PartName="/ppt/media/image13.wmf" ContentType="image/x-wmf"/>
  <Override PartName="/ppt/media/image9.wmf" ContentType="image/x-wmf"/>
  <Override PartName="/ppt/media/image41.png" ContentType="image/png"/>
  <Override PartName="/ppt/media/image30.wmf" ContentType="image/x-wmf"/>
  <Override PartName="/ppt/media/image31.png" ContentType="image/png"/>
  <Override PartName="/ppt/media/image32.png" ContentType="image/png"/>
  <Override PartName="/ppt/media/image34.png" ContentType="image/png"/>
  <Override PartName="/ppt/media/image35.png" ContentType="image/png"/>
  <Override PartName="/ppt/media/image36.png" ContentType="image/png"/>
  <Override PartName="/ppt/media/image60.wmf" ContentType="image/x-wmf"/>
  <Override PartName="/ppt/media/image38.png" ContentType="image/png"/>
  <Override PartName="/ppt/media/image39.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8.png" ContentType="image/png"/>
  <Override PartName="/ppt/media/image28.png" ContentType="image/png"/>
  <Override PartName="/ppt/media/image50.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92"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4440" y="684360"/>
            <a:ext cx="4572000" cy="3429000"/>
          </a:xfrm>
          <a:prstGeom prst="rect">
            <a:avLst/>
          </a:prstGeom>
          <a:ln w="0">
            <a:noFill/>
          </a:ln>
        </p:spPr>
      </p:sp>
      <p:sp>
        <p:nvSpPr>
          <p:cNvPr id="860"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4440" y="684360"/>
            <a:ext cx="4572000" cy="3429000"/>
          </a:xfrm>
          <a:prstGeom prst="rect">
            <a:avLst/>
          </a:prstGeom>
          <a:ln w="0">
            <a:noFill/>
          </a:ln>
        </p:spPr>
      </p:sp>
      <p:sp>
        <p:nvSpPr>
          <p:cNvPr id="862"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A6B5-E166-4C70-BB63-2EDBFFF45B8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27272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C160-17D9-4CED-8F67-F2D470169B88}"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A337-5612-48E1-A3A5-F9AE9077ED8D}"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 do not Exist in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 to Provide Incentiv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to Risk Factor for Contracts</a:t>
            </a:r>
            <a:endParaRPr b="1" lang="en-US" sz="2000" spc="-1" strike="noStrike">
              <a:solidFill>
                <a:srgbClr val="000000"/>
              </a:solidFill>
              <a:latin typeface="Arial"/>
            </a:endParaRPr>
          </a:p>
        </p:txBody>
      </p:sp>
      <p:sp>
        <p:nvSpPr>
          <p:cNvPr id="2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PPA contract price is stated as a single, all-in energy price, Standard &amp; Poor's will use a proxy capacity charge, stated in dollars per kilowatt-year, and multiply that figure by the number of kilowatts under contra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be updated from time to time to reflect prevailing costs for the development and financing of the marginal unit, a combustion turbine – meaning that the capacity charge is the carrying change on a new combustion turbin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departure from the historical practice of simply halving all-in energy payments and assuming a one-to-one ratio of energy to capacity payments. This new element of the rating methodology will also be applied to generation with extremely low variable costs whose price is stated as an all-in energy price, such as nuclear and wind generation.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os Affected by Risk Adjustment</a:t>
            </a:r>
            <a:endParaRPr b="1" lang="en-US" sz="2000" spc="-1" strike="noStrike">
              <a:solidFill>
                <a:srgbClr val="000000"/>
              </a:solidFill>
              <a:latin typeface="Arial"/>
            </a:endParaRPr>
          </a:p>
        </p:txBody>
      </p:sp>
      <p:sp>
        <p:nvSpPr>
          <p:cNvPr id="2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atios affected by the PPA adjustment includ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 debt is increased by the calculated NPV of the stream of capacity payments, after the application of the risk factor, which is added to the numerator and denominator in calculating an adjusted debt-to-capitalization rati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lied interest expense derived from applying the average interest rate to the NPV figure is simultaneously treated as a reduction in power purchase expenses and added to interest expense for the calculation of the adjusted funds from operations (FFO) to interest ratio; 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FO to total debt ratio is adjusted by adding the NPV of capacity payments, after the application of the risk factor, to debt in the denominator and an implied depreciation expense is added to FFO.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PPA Accounting Treatment on PPA Costs and Benefits</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return on equity higher than after tax cost of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as capitalised lease means more equity must be raised to compensate for the debt that is capitali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ed cost of equity at the utility company offsets the use of debt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e Exercise with Alternative Treatment of PPA Contracts </a:t>
            </a:r>
            <a:endParaRPr b="1" lang="en-US" sz="2000" spc="-1" strike="noStrike">
              <a:solidFill>
                <a:srgbClr val="000000"/>
              </a:solidFill>
              <a:latin typeface="Arial"/>
            </a:endParaRPr>
          </a:p>
        </p:txBody>
      </p:sp>
      <p:sp>
        <p:nvSpPr>
          <p:cNvPr id="2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from perspective of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1: Off-taker builds plant and finances with 50% equity and 50%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2: PPA agree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is financed with 85% 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treats PPA agreement as normal contrac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 capitalises availability charges as lease payme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 debt and equity capital in case where PPA is treated as a lease payment</a:t>
            </a: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ination Clauses</a:t>
            </a:r>
            <a:endParaRPr b="1" lang="en-US" sz="2000" spc="-1" strike="noStrike">
              <a:solidFill>
                <a:srgbClr val="000000"/>
              </a:solidFill>
              <a:latin typeface="Arial"/>
            </a:endParaRPr>
          </a:p>
        </p:txBody>
      </p:sp>
      <p:sp>
        <p:nvSpPr>
          <p:cNvPr id="2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designed to repay senior lenders in case of PPA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may be where termination occurs because of default on debt.  Here the off-taker may have the option to buy-out facility and repay the entire senior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off-taker (government perc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 of the off-taker dec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rmination valuation depending on causes for termin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claims and termination costs onl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equity contributions (pre-PC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 of senior debt plus compounded rate of return on 12% on equity contribution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2"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304"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306"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 of PURPA in California</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Offer No. 4 (ISO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fying facility (QF) based on renewable energy could sign a contract based on a fixed forecast of future electricity price. Such a QF entering a contract would be guaranteed $57/MWh in 1985, $81/MWh in 1990, and $109/MWh in 1994.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0 years the contract price reverted to the short run avoided cost, which typically would be far lower than the fixed price guarante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fired cogeneration units were not treated nearly as generously but were generally paid an annual average of about $25/MWh for capacity and about $25 to $30/MWh for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s did not have elaborate allocations of risk</a:t>
            </a:r>
            <a:endParaRPr b="0" lang="en-US" sz="1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310"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3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3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6" name="Picture 3" descr=""/>
          <p:cNvPicPr/>
          <p:nvPr/>
        </p:nvPicPr>
        <p:blipFill>
          <a:blip r:embed="rId1"/>
          <a:stretch/>
        </p:blipFill>
        <p:spPr>
          <a:xfrm>
            <a:off x="457200" y="1701720"/>
            <a:ext cx="8001000" cy="413568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3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 General Discussion</a:t>
            </a:r>
            <a:endParaRPr b="1" lang="en-US" sz="2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33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ompany – The Special Purpose Vehicle</a:t>
            </a:r>
            <a:endParaRPr b="1" lang="en-US" sz="20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a:t>
            </a:r>
            <a:endParaRPr b="1" lang="en-US" sz="2000" spc="-1" strike="noStrike">
              <a:solidFill>
                <a:srgbClr val="000000"/>
              </a:solidFill>
              <a:latin typeface="Arial"/>
            </a:endParaRPr>
          </a:p>
        </p:txBody>
      </p:sp>
      <p:sp>
        <p:nvSpPr>
          <p:cNvPr id="3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holder Agreem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of profits</a:t>
            </a:r>
            <a:endParaRPr b="0" lang="en-US" sz="18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339"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3"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4"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5"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6"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7"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349"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350"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351"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352"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3"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4"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5"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57"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358"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359"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361"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363"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5"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366"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367"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8"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369"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0"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371"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372"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3"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374"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377"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378"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79"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0"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381"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382"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384"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5"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7"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388"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9"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0"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391"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2"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393"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396"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00"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02"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404" name="Text Box 69"/>
          <p:cNvSpPr/>
          <p:nvPr/>
        </p:nvSpPr>
        <p:spPr>
          <a:xfrm>
            <a:off x="990720" y="571500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SA or other involvement</a:t>
            </a:r>
            <a:endParaRPr b="0" lang="en-US" sz="800" spc="-1" strike="noStrike">
              <a:solidFill>
                <a:srgbClr val="000000"/>
              </a:solidFill>
              <a:latin typeface="Arial"/>
            </a:endParaRPr>
          </a:p>
        </p:txBody>
      </p:sp>
      <p:sp>
        <p:nvSpPr>
          <p:cNvPr id="405"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4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408"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409"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410"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411"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412"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413"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414"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415"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416"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417"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418"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419"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420"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21"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422"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423"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424"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425"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426"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427"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428"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429"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430"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431"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432"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3"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4"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2"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3"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4"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5"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6"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7"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8"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49"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0"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2"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3"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5"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6"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7"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58"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9"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60"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1"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2"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64"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5"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6"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7"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68"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0"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1"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with PPA Contracts</a:t>
            </a:r>
            <a:endParaRPr b="1" lang="en-US" sz="2000" spc="-1" strike="noStrike">
              <a:solidFill>
                <a:srgbClr val="000000"/>
              </a:solidFill>
              <a:latin typeface="Arial"/>
            </a:endParaRPr>
          </a:p>
        </p:txBody>
      </p:sp>
      <p:pic>
        <p:nvPicPr>
          <p:cNvPr id="474" name="Picture 2" descr=""/>
          <p:cNvPicPr/>
          <p:nvPr/>
        </p:nvPicPr>
        <p:blipFill>
          <a:blip r:embed="rId1"/>
          <a:stretch/>
        </p:blipFill>
        <p:spPr>
          <a:xfrm>
            <a:off x="762120" y="1825560"/>
            <a:ext cx="7619760" cy="3968640"/>
          </a:xfrm>
          <a:prstGeom prst="rect">
            <a:avLst/>
          </a:prstGeom>
          <a:ln w="0">
            <a:noFill/>
          </a:ln>
        </p:spPr>
      </p:pic>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4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4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457200" y="1874880"/>
            <a:ext cx="8001000" cy="38019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4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4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Market Data in Different Regions</a:t>
            </a:r>
            <a:endParaRPr b="1" lang="en-US" sz="2000" spc="-1" strike="noStrike">
              <a:solidFill>
                <a:srgbClr val="000000"/>
              </a:solidFill>
              <a:latin typeface="Arial"/>
            </a:endParaRPr>
          </a:p>
        </p:txBody>
      </p:sp>
      <p:sp>
        <p:nvSpPr>
          <p:cNvPr id="484" name=""/>
          <p:cNvSpPr txBox="1"/>
          <p:nvPr/>
        </p:nvSpPr>
        <p:spPr>
          <a:xfrm>
            <a:off x="685440" y="1371600"/>
            <a:ext cx="762012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8% - 20%</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4-1.5</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 Example</a:t>
            </a:r>
            <a:endParaRPr b="1" lang="en-US" sz="2000" spc="-1" strike="noStrike">
              <a:solidFill>
                <a:srgbClr val="000000"/>
              </a:solidFill>
              <a:latin typeface="Arial"/>
            </a:endParaRPr>
          </a:p>
        </p:txBody>
      </p:sp>
      <p:sp>
        <p:nvSpPr>
          <p:cNvPr id="48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JM" sz="1200" spc="-1" strike="noStrike">
                <a:solidFill>
                  <a:srgbClr val="000000"/>
                </a:solidFill>
                <a:latin typeface="Arial"/>
              </a:rPr>
              <a:t>Qurayyah IPP/Hajr Electricity Company</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MW (Only Power No Water)</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 20 years/ Energy Conversion Agreement</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 Yea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1.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to Equity at Commercial Operation: 80:20</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oon and cash trap</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ized tariff low because of financing</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oan Life 13.32</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a:t>
            </a:r>
            <a:endParaRPr b="0" lang="en-US" sz="12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completion: 125 BPS</a:t>
            </a:r>
            <a:endParaRPr b="0" lang="en-US" sz="1100" spc="-1" strike="noStrike">
              <a:solidFill>
                <a:srgbClr val="000000"/>
              </a:solidFill>
              <a:latin typeface="Arial"/>
            </a:endParaRPr>
          </a:p>
          <a:p>
            <a:pPr lvl="2" marL="1371600" indent="-228600">
              <a:spcBef>
                <a:spcPts val="275"/>
              </a:spcBef>
              <a:spcAft>
                <a:spcPts val="68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st completion: 130-175 BPS</a:t>
            </a:r>
            <a:endParaRPr b="0" lang="en-US" sz="11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12% to 16%</a:t>
            </a: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Terms - Continued</a:t>
            </a:r>
            <a:endParaRPr b="1" lang="en-US" sz="2000" spc="-1" strike="noStrike">
              <a:solidFill>
                <a:srgbClr val="000000"/>
              </a:solidFill>
              <a:latin typeface="Arial"/>
            </a:endParaRPr>
          </a:p>
        </p:txBody>
      </p:sp>
      <p:sp>
        <p:nvSpPr>
          <p:cNvPr id="488" name=""/>
          <p:cNvSpPr txBox="1"/>
          <p:nvPr/>
        </p:nvSpPr>
        <p:spPr>
          <a:xfrm>
            <a:off x="304920" y="1523880"/>
            <a:ext cx="39621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tenor is explained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period is still within the PPA terms (i.e. 20 years from PCOD), giving a one year tail, 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a Build, Own and Operate (BOO) and a BOO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 (DSRA) covering debt service for 6 months or a letter of credit of the same amou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Picture 3" descr=""/>
          <p:cNvPicPr/>
          <p:nvPr/>
        </p:nvPicPr>
        <p:blipFill>
          <a:blip r:embed="rId1"/>
          <a:stretch/>
        </p:blipFill>
        <p:spPr>
          <a:xfrm>
            <a:off x="4343400" y="2286000"/>
            <a:ext cx="4800600" cy="348948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icing and Changing Credit Spreads</a:t>
            </a:r>
            <a:endParaRPr b="1" lang="en-US" sz="2000" spc="-1" strike="noStrike">
              <a:solidFill>
                <a:srgbClr val="000000"/>
              </a:solidFill>
              <a:latin typeface="Arial"/>
            </a:endParaRPr>
          </a:p>
        </p:txBody>
      </p:sp>
      <p:pic>
        <p:nvPicPr>
          <p:cNvPr id="491" name="Picture 2" descr=""/>
          <p:cNvPicPr/>
          <p:nvPr/>
        </p:nvPicPr>
        <p:blipFill>
          <a:blip r:embed="rId1"/>
          <a:stretch/>
        </p:blipFill>
        <p:spPr>
          <a:xfrm>
            <a:off x="1647720" y="2171880"/>
            <a:ext cx="5848560" cy="32763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ovenants</a:t>
            </a:r>
            <a:endParaRPr b="1" lang="en-US" sz="2000" spc="-1" strike="noStrike">
              <a:solidFill>
                <a:srgbClr val="000000"/>
              </a:solidFill>
              <a:latin typeface="Arial"/>
            </a:endParaRPr>
          </a:p>
        </p:txBody>
      </p:sp>
      <p:sp>
        <p:nvSpPr>
          <p:cNvPr id="4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20x in Base C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for the previous 12 months to be  greater than 1.10x for distribu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Senior DSCR of 1.05x for Event of defaul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Debt not to exceed 80% of the total project cos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r</a:t>
            </a:r>
            <a:endParaRPr b="1" lang="en-US" sz="2000" spc="-1" strike="noStrike">
              <a:solidFill>
                <a:srgbClr val="000000"/>
              </a:solidFill>
              <a:latin typeface="Arial"/>
            </a:endParaRPr>
          </a:p>
        </p:txBody>
      </p:sp>
      <p:sp>
        <p:nvSpPr>
          <p:cNvPr id="4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di Electricity Company is a strong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ownership by the Government of Saudi Arabia (which has a rating of AA- S&amp;P and Fitch and Aa3 from Moody’s – all rating for Long Term Foreign Currency Debt of KSA)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by Saudi Aramco and Is rated AA- (stable outlook) by S&amp;P and Fitch and A1 (positive outlook) by Moody’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s 50% owned by the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of 20 yea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own and operate</a:t>
            </a:r>
            <a:endParaRPr b="0" lang="en-US" sz="18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 of Funds</a:t>
            </a:r>
            <a:endParaRPr b="1" lang="en-US" sz="2000" spc="-1" strike="noStrike">
              <a:solidFill>
                <a:srgbClr val="000000"/>
              </a:solidFill>
              <a:latin typeface="Arial"/>
            </a:endParaRPr>
          </a:p>
        </p:txBody>
      </p:sp>
      <p:pic>
        <p:nvPicPr>
          <p:cNvPr id="497" name="Picture 3" descr=""/>
          <p:cNvPicPr/>
          <p:nvPr/>
        </p:nvPicPr>
        <p:blipFill>
          <a:blip r:embed="rId1"/>
          <a:stretch/>
        </p:blipFill>
        <p:spPr>
          <a:xfrm>
            <a:off x="457200" y="1770120"/>
            <a:ext cx="8418600" cy="3725640"/>
          </a:xfrm>
          <a:prstGeom prst="rect">
            <a:avLst/>
          </a:prstGeom>
          <a:ln w="0">
            <a:noFill/>
          </a:ln>
        </p:spPr>
      </p:pic>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499"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501" name="Picture 5" descr=""/>
          <p:cNvPicPr/>
          <p:nvPr/>
        </p:nvPicPr>
        <p:blipFill>
          <a:blip r:embed="rId1"/>
          <a:stretch/>
        </p:blipFill>
        <p:spPr>
          <a:xfrm>
            <a:off x="533520" y="2235240"/>
            <a:ext cx="4495680" cy="3073320"/>
          </a:xfrm>
          <a:prstGeom prst="rect">
            <a:avLst/>
          </a:prstGeom>
          <a:ln w="0">
            <a:noFill/>
          </a:ln>
        </p:spPr>
      </p:pic>
      <p:pic>
        <p:nvPicPr>
          <p:cNvPr id="502" name="Picture 6" descr=""/>
          <p:cNvPicPr/>
          <p:nvPr/>
        </p:nvPicPr>
        <p:blipFill>
          <a:blip r:embed="rId2"/>
          <a:stretch/>
        </p:blipFill>
        <p:spPr>
          <a:xfrm>
            <a:off x="4572000" y="2438280"/>
            <a:ext cx="4186080" cy="2862360"/>
          </a:xfrm>
          <a:prstGeom prst="rect">
            <a:avLst/>
          </a:prstGeom>
          <a:ln w="0">
            <a:noFill/>
          </a:ln>
        </p:spPr>
      </p:pic>
      <p:sp>
        <p:nvSpPr>
          <p:cNvPr id="503"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504"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5"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0" name="Picture 2" descr=""/>
          <p:cNvPicPr/>
          <p:nvPr/>
        </p:nvPicPr>
        <p:blipFill>
          <a:blip r:embed="rId1"/>
          <a:stretch/>
        </p:blipFill>
        <p:spPr>
          <a:xfrm>
            <a:off x="372960" y="1981080"/>
            <a:ext cx="8266320" cy="3492720"/>
          </a:xfrm>
          <a:prstGeom prst="rect">
            <a:avLst/>
          </a:prstGeom>
          <a:ln w="0">
            <a:noFill/>
          </a:ln>
        </p:spPr>
      </p:pic>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507" name="Picture 4" descr=""/>
          <p:cNvPicPr/>
          <p:nvPr/>
        </p:nvPicPr>
        <p:blipFill>
          <a:blip r:embed="rId1"/>
          <a:stretch/>
        </p:blipFill>
        <p:spPr>
          <a:xfrm>
            <a:off x="609480" y="2438280"/>
            <a:ext cx="6093000" cy="3382920"/>
          </a:xfrm>
          <a:prstGeom prst="rect">
            <a:avLst/>
          </a:prstGeom>
          <a:ln w="0">
            <a:noFill/>
          </a:ln>
        </p:spPr>
      </p:pic>
      <p:sp>
        <p:nvSpPr>
          <p:cNvPr id="508"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5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513"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514"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516"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518" name="Picture 12" descr=""/>
          <p:cNvPicPr/>
          <p:nvPr/>
        </p:nvPicPr>
        <p:blipFill>
          <a:blip r:embed="rId1"/>
          <a:stretch/>
        </p:blipFill>
        <p:spPr>
          <a:xfrm>
            <a:off x="4495680" y="2286000"/>
            <a:ext cx="3267360" cy="3286080"/>
          </a:xfrm>
          <a:prstGeom prst="rect">
            <a:avLst/>
          </a:prstGeom>
          <a:ln w="0">
            <a:noFill/>
          </a:ln>
        </p:spPr>
      </p:pic>
      <p:pic>
        <p:nvPicPr>
          <p:cNvPr id="519" name="Picture 15" descr=""/>
          <p:cNvPicPr/>
          <p:nvPr/>
        </p:nvPicPr>
        <p:blipFill>
          <a:blip r:embed="rId2"/>
          <a:stretch/>
        </p:blipFill>
        <p:spPr>
          <a:xfrm>
            <a:off x="762120" y="2286000"/>
            <a:ext cx="3114720" cy="3286080"/>
          </a:xfrm>
          <a:prstGeom prst="rect">
            <a:avLst/>
          </a:prstGeom>
          <a:ln w="0">
            <a:noFill/>
          </a:ln>
        </p:spPr>
      </p:pic>
      <p:sp>
        <p:nvSpPr>
          <p:cNvPr id="520"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5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In PPA</a:t>
            </a:r>
            <a:endParaRPr b="1" lang="en-US" sz="2000" spc="-1" strike="noStrike">
              <a:solidFill>
                <a:srgbClr val="000000"/>
              </a:solidFill>
              <a:latin typeface="Arial"/>
            </a:endParaRPr>
          </a:p>
        </p:txBody>
      </p:sp>
      <p:sp>
        <p:nvSpPr>
          <p:cNvPr id="52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ligations of the IPP are limited obligations of the SPV payable solely from amounts received with respect to the plant and do not constitute a debt of the IPP company in contravention of any statutory limitation or restriction and do not constitute obligations for which the IPP company is obligated. The IPP company shall not be obligated to meet its obligations from any funds other than moneys received with respect to the plant held by the SPV.</a:t>
            </a:r>
            <a:endParaRPr b="0" lang="en-US" sz="18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5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flow characteristics of the project; bu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lenders have limited flexibility in varying amortization profiles (e.g., agency lenders)</a:t>
            </a:r>
            <a:endParaRPr b="0" lang="en-US" sz="16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5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5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2" name="Picture 2" descr=""/>
          <p:cNvPicPr/>
          <p:nvPr/>
        </p:nvPicPr>
        <p:blipFill>
          <a:blip r:embed="rId1"/>
          <a:stretch/>
        </p:blipFill>
        <p:spPr>
          <a:xfrm>
            <a:off x="284040" y="2133720"/>
            <a:ext cx="8267760" cy="3276360"/>
          </a:xfrm>
          <a:prstGeom prst="rect">
            <a:avLst/>
          </a:prstGeom>
          <a:ln w="0">
            <a:noFill/>
          </a:ln>
        </p:spPr>
      </p:pic>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erms</a:t>
            </a:r>
            <a:endParaRPr b="1" lang="en-US" sz="2000" spc="-1" strike="noStrike">
              <a:solidFill>
                <a:srgbClr val="000000"/>
              </a:solidFill>
              <a:latin typeface="Arial"/>
            </a:endParaRPr>
          </a:p>
        </p:txBody>
      </p:sp>
      <p:sp>
        <p:nvSpPr>
          <p:cNvPr id="5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to Door Ten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a:t>
            </a:r>
            <a:endParaRPr b="0" lang="en-US" sz="18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5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537"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8"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5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merging Country Defaults (S&amp;P 2007)</a:t>
            </a:r>
            <a:endParaRPr b="1" lang="en-US" sz="2000" spc="-1" strike="noStrike">
              <a:solidFill>
                <a:srgbClr val="000000"/>
              </a:solidFill>
              <a:latin typeface="Arial"/>
            </a:endParaRPr>
          </a:p>
        </p:txBody>
      </p:sp>
      <p:pic>
        <p:nvPicPr>
          <p:cNvPr id="542" name="Picture 4" descr=""/>
          <p:cNvPicPr/>
          <p:nvPr/>
        </p:nvPicPr>
        <p:blipFill>
          <a:blip r:embed="rId1"/>
          <a:stretch/>
        </p:blipFill>
        <p:spPr>
          <a:xfrm>
            <a:off x="939960" y="1295280"/>
            <a:ext cx="7340400" cy="5105520"/>
          </a:xfrm>
          <a:prstGeom prst="rect">
            <a:avLst/>
          </a:prstGeom>
          <a:ln w="0">
            <a:noFill/>
          </a:ln>
        </p:spPr>
      </p:pic>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Problem Loans (S&amp;P 2007)</a:t>
            </a:r>
            <a:endParaRPr b="1" lang="en-US" sz="2000" spc="-1" strike="noStrike">
              <a:solidFill>
                <a:srgbClr val="000000"/>
              </a:solidFill>
              <a:latin typeface="Arial"/>
            </a:endParaRPr>
          </a:p>
        </p:txBody>
      </p:sp>
      <p:pic>
        <p:nvPicPr>
          <p:cNvPr id="544" name="Picture 4" descr=""/>
          <p:cNvPicPr/>
          <p:nvPr/>
        </p:nvPicPr>
        <p:blipFill>
          <a:blip r:embed="rId1"/>
          <a:stretch/>
        </p:blipFill>
        <p:spPr>
          <a:xfrm>
            <a:off x="1143000" y="1168560"/>
            <a:ext cx="6532560" cy="544032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54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547"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54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Terms (2012)</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 1.9%</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 30% of Credit Spre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of-pocket third party expenses that includ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cessary travel expenses (provided that for any travel by airplane, only coach/economy class except for trips for which the main flight segment duration is in excess of 4 (four) hours, in which case entitled to use business class in such case for such segmen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able business hotel accommodation, subsistence costs, reasonable printing and photocopying costs and the fees and expenses of external advisors (including external legal advisors) that have been previously approved by, and whose fees and expenses have been incurred in accordance with any relevant agreement with, the Sponsor. </a:t>
            </a:r>
            <a:endParaRPr b="0" lang="en-US" sz="14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Bridge Loans (EBL)</a:t>
            </a:r>
            <a:endParaRPr b="1" lang="en-US" sz="2000" spc="-1" strike="noStrike">
              <a:solidFill>
                <a:srgbClr val="000000"/>
              </a:solidFill>
              <a:latin typeface="Arial"/>
            </a:endParaRPr>
          </a:p>
        </p:txBody>
      </p:sp>
      <p:sp>
        <p:nvSpPr>
          <p:cNvPr id="5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s made by sponsors to cover equity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loans after commercial op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bank perspective, EBL is equ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BL facility can be secured by corporate credit or Bank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computing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EBL as debt and compute actual equity injections, you are not counting the cost to the sponsor of holding additional credi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nsider the EBL as equity, you are not reflecting the equity that comes out of your pocket and the equity that goes back into your pocket which is the objective of the IRR calculation.</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4" name="Picture 2" descr=""/>
          <p:cNvPicPr/>
          <p:nvPr/>
        </p:nvPicPr>
        <p:blipFill>
          <a:blip r:embed="rId1"/>
          <a:stretch/>
        </p:blipFill>
        <p:spPr>
          <a:xfrm>
            <a:off x="457200" y="1219320"/>
            <a:ext cx="8380440" cy="4860720"/>
          </a:xfrm>
          <a:prstGeom prst="rect">
            <a:avLst/>
          </a:prstGeom>
          <a:ln w="0">
            <a:noFill/>
          </a:ln>
        </p:spPr>
      </p:pic>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556" name="PlaceHolder 2"/>
          <p:cNvSpPr>
            <a:spLocks noGrp="1"/>
          </p:cNvSpPr>
          <p:nvPr>
            <p:ph/>
          </p:nvPr>
        </p:nvSpPr>
        <p:spPr>
          <a:xfrm>
            <a:off x="761760" y="1523520"/>
            <a:ext cx="6172200" cy="43434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Text Box 4"/>
          <p:cNvSpPr/>
          <p:nvPr/>
        </p:nvSpPr>
        <p:spPr>
          <a:xfrm>
            <a:off x="7162920" y="175248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Example</a:t>
            </a:r>
            <a:endParaRPr b="1" lang="en-US" sz="2000" spc="-1" strike="noStrike">
              <a:solidFill>
                <a:srgbClr val="000000"/>
              </a:solidFill>
              <a:latin typeface="Arial"/>
            </a:endParaRPr>
          </a:p>
        </p:txBody>
      </p:sp>
      <p:sp>
        <p:nvSpPr>
          <p:cNvPr id="5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lang="en-US" sz="1800" spc="-1" strike="noStrike">
                <a:solidFill>
                  <a:srgbClr val="000000"/>
                </a:solidFill>
                <a:latin typeface="Arial"/>
              </a:rPr>
              <a:t>The construction of the Project will be contracted to the EPC contract a full turnkey, fixed price, date certain, lump sum EPC contract of a standard natur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 will contain obligations to pay liquidated damages in the event of delay in completion or performance shortfal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Provisions</a:t>
            </a:r>
            <a:endParaRPr b="1" lang="en-US" sz="2000" spc="-1" strike="noStrike">
              <a:solidFill>
                <a:srgbClr val="000000"/>
              </a:solidFill>
              <a:latin typeface="Arial"/>
            </a:endParaRPr>
          </a:p>
        </p:txBody>
      </p:sp>
      <p:sp>
        <p:nvSpPr>
          <p:cNvPr id="5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where the Contractor has single point, full responsibility for engineering, procuring and constructing a Plant and Electrical Special Facilities in accordance with the ‘Sponsors Functional Requirements’ (“SFR”). Also in accordance with the relevant requirements of the Project Agreements to the extent applicable to the engineering, procurement and construction of the Project.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contract includes full design, construction and testing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takes all design risk and the Owner makes no warranty as to the accuracy, completeness or correctness of any documentation given by it to the Contrac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approvals, design, subcontracting, price and payment, site conditions and soil/ground risk, performance security and retention, performance guarantees and minimum performance criteria, warranty periods, local content requirements, spare parts and special tools, testing, utilities, fuel, consumables and start up power; payment and certification, changes, transfer of title and risk of loss; force majeure, suspension and termin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Orders in LSTK Contract</a:t>
            </a:r>
            <a:endParaRPr b="1" lang="en-US" sz="2000" spc="-1" strike="noStrike">
              <a:solidFill>
                <a:srgbClr val="000000"/>
              </a:solidFill>
              <a:latin typeface="Arial"/>
            </a:endParaRPr>
          </a:p>
        </p:txBody>
      </p:sp>
      <p:sp>
        <p:nvSpPr>
          <p:cNvPr id="5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may at any time prior to PCOD direct Chan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actor may request a Design Change, which request shall be granted or denied by the SPV.</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ce of any work required, modified or deleted by a change shall be on a “cost plus” basis to be mutually agreed by the par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isagreements occur, on the necessary adjustments to the contract, the contractor shall proceed if requested by the SPV.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a:t>
            </a:r>
            <a:endParaRPr b="1" lang="en-US" sz="2000" spc="-1" strike="noStrike">
              <a:solidFill>
                <a:srgbClr val="000000"/>
              </a:solidFill>
              <a:latin typeface="Arial"/>
            </a:endParaRPr>
          </a:p>
        </p:txBody>
      </p:sp>
      <p:sp>
        <p:nvSpPr>
          <p:cNvPr id="5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with company affiliated with spons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company associated with EPC contrac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define when responsibilities transfer from EPC contractor to Operato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include incentives and penalties with respect to heat rate targe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 pay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up cos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p-front period for mobilisation</a:t>
            </a:r>
            <a:endParaRPr b="0" lang="en-US" sz="16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mp;M Contract Timing</a:t>
            </a:r>
            <a:endParaRPr b="1" lang="en-US" sz="2000" spc="-1" strike="noStrike">
              <a:solidFill>
                <a:srgbClr val="000000"/>
              </a:solidFill>
              <a:latin typeface="Arial"/>
            </a:endParaRPr>
          </a:p>
        </p:txBody>
      </p:sp>
      <p:sp>
        <p:nvSpPr>
          <p:cNvPr id="5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of the O&amp;M Agreement begins on the date of execution of the O&amp;M Agreement and terminates on the earlier of (i) termination of the PPA; and (ii) the 20</a:t>
            </a:r>
            <a:r>
              <a:rPr b="0" lang="en-US" sz="1600" spc="-1" strike="noStrike" baseline="30000">
                <a:solidFill>
                  <a:srgbClr val="000000"/>
                </a:solidFill>
                <a:latin typeface="Arial"/>
              </a:rPr>
              <a:t>th</a:t>
            </a:r>
            <a:r>
              <a:rPr b="0" lang="en-US" sz="1600" spc="-1" strike="noStrike">
                <a:solidFill>
                  <a:srgbClr val="000000"/>
                </a:solidFill>
                <a:latin typeface="Arial"/>
              </a:rPr>
              <a:t> anniversary of PCOD.</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rm is divided into period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ization Period: Period from the Mobilization Date through the Day before the Commercial Operation Dat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Operating Period: From COD through PCOD.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Operating Period: Period from the PCOD through and the last end of the ter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entives in O&amp;M Contract</a:t>
            </a:r>
            <a:endParaRPr b="1" lang="en-US" sz="2000" spc="-1" strike="noStrike">
              <a:solidFill>
                <a:srgbClr val="000000"/>
              </a:solidFill>
              <a:latin typeface="Arial"/>
            </a:endParaRPr>
          </a:p>
        </p:txBody>
      </p:sp>
      <p:sp>
        <p:nvSpPr>
          <p:cNvPr id="5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Incentive – If the actual consumption of natural gas is lower than estimated in the fuel model, the SPV shall pay the O&amp;M contractor a fuel Incentive payment equal to some percent of energy charge in the PPA .  This will be subject to an annual cap.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as consumption is higher than estimated, the O&amp;M contractor  will pay to the SPV an amount equal to 25% of the energy charge component, subject to an annual ca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actual capacity payments of the SPV exceed the projected capacity payments revenues, the SPV will pay the Operator an Energy Availability Incentive Payment equivalent to 20% of the additional revenue.  There is a similar mechanism if the capacity payments are below the project payments</a:t>
            </a:r>
            <a:endParaRPr b="0" lang="en-US" sz="18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 Mitigation and Importance</a:t>
            </a:r>
            <a:endParaRPr b="1" lang="en-US" sz="2000" spc="-1" strike="noStrike">
              <a:solidFill>
                <a:srgbClr val="000000"/>
              </a:solidFill>
              <a:latin typeface="Arial"/>
            </a:endParaRPr>
          </a:p>
        </p:txBody>
      </p:sp>
      <p:pic>
        <p:nvPicPr>
          <p:cNvPr id="126" name="Picture 2" descr=""/>
          <p:cNvPicPr/>
          <p:nvPr/>
        </p:nvPicPr>
        <p:blipFill>
          <a:blip r:embed="rId1"/>
          <a:stretch/>
        </p:blipFill>
        <p:spPr>
          <a:xfrm>
            <a:off x="380880" y="2133720"/>
            <a:ext cx="8480520" cy="3138480"/>
          </a:xfrm>
          <a:prstGeom prst="rect">
            <a:avLst/>
          </a:prstGeom>
          <a:ln w="0">
            <a:noFill/>
          </a:ln>
        </p:spPr>
      </p:pic>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575" name="Picture 4" descr=""/>
          <p:cNvPicPr/>
          <p:nvPr/>
        </p:nvPicPr>
        <p:blipFill>
          <a:blip r:embed="rId1"/>
          <a:stretch/>
        </p:blipFill>
        <p:spPr>
          <a:xfrm>
            <a:off x="914400" y="1447920"/>
            <a:ext cx="6324480" cy="4878360"/>
          </a:xfrm>
          <a:prstGeom prst="rect">
            <a:avLst/>
          </a:prstGeom>
          <a:ln w="0">
            <a:noFill/>
          </a:ln>
        </p:spPr>
      </p:pic>
      <p:sp>
        <p:nvSpPr>
          <p:cNvPr id="576"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577"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578"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5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of Financial Model</a:t>
            </a:r>
            <a:endParaRPr b="1" lang="en-US" sz="2000" spc="-1" strike="noStrike">
              <a:solidFill>
                <a:srgbClr val="000000"/>
              </a:solidFill>
              <a:latin typeface="Arial"/>
            </a:endParaRPr>
          </a:p>
        </p:txBody>
      </p:sp>
      <p:sp>
        <p:nvSpPr>
          <p:cNvPr id="58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chnical assumptions used in the model will be reviewed by the Lenders’ Independent Engineer, who will also develop downside sensitivities and insurance assump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mmercial Operation Date (P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58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5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cs and Theory of Development Cost</a:t>
            </a:r>
            <a:endParaRPr b="1" lang="en-US" sz="2000" spc="-1" strike="noStrike">
              <a:solidFill>
                <a:srgbClr val="000000"/>
              </a:solidFill>
              <a:latin typeface="Arial"/>
            </a:endParaRPr>
          </a:p>
        </p:txBody>
      </p:sp>
      <p:sp>
        <p:nvSpPr>
          <p:cNvPr id="589"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hareholders agreement provides that the capped development costs will be paid by the SPV to the developer within 15 days of first draw down under the financing documen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what constitutes development cost – lawyers fees, consulting fees etc.</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salary costs and possible inflation of cost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of premium for development cost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velopment costs does not compensate developer</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can cancel a project at different stages which provides aspects of real option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of a project declines over time from development through the first few years of construction</a:t>
            </a:r>
            <a:endParaRPr b="0" lang="en-US" sz="1800" spc="-1" strike="noStrike">
              <a:solidFill>
                <a:srgbClr val="000000"/>
              </a:solidFill>
              <a:latin typeface="Arial"/>
            </a:endParaRPr>
          </a:p>
          <a:p>
            <a:pPr marL="229320" indent="-1713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5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593"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94" name="Object 4"/>
          <p:cNvGraphicFramePr/>
          <p:nvPr/>
        </p:nvGraphicFramePr>
        <p:xfrm>
          <a:off x="0" y="1905120"/>
          <a:ext cx="8686800" cy="4440240"/>
        </p:xfrm>
        <a:graphic>
          <a:graphicData uri="http://schemas.openxmlformats.org/presentationml/2006/ole">
            <p:oleObj progId="Word.Document.12" r:id="rId1" spid="">
              <p:embed/>
              <p:pic>
                <p:nvPicPr>
                  <p:cNvPr id="595"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596"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598"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600"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602"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6"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608"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609"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619"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620"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622"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623"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624"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625"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626"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27"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28"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629"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630"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631"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632"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3"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635"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636"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638"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39"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0"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1"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2"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3"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4"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645"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46"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647"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648"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649"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0"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1"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2"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3"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4"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5"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657"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9"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1"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2"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3"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664"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665"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that  Must be Completed Before Financial Close (Conditions Precedent)</a:t>
            </a:r>
            <a:endParaRPr b="1" lang="en-US" sz="2000" spc="-1" strike="noStrike">
              <a:solidFill>
                <a:srgbClr val="000000"/>
              </a:solidFill>
              <a:latin typeface="Arial"/>
            </a:endParaRPr>
          </a:p>
        </p:txBody>
      </p:sp>
      <p:sp>
        <p:nvSpPr>
          <p:cNvPr id="667" name="TextBox 69"/>
          <p:cNvSpPr/>
          <p:nvPr/>
        </p:nvSpPr>
        <p:spPr>
          <a:xfrm>
            <a:off x="4572000" y="3809880"/>
            <a:ext cx="3581280" cy="91692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conditions precedent have been fulfilled, this is the financial close</a:t>
            </a:r>
            <a:endParaRPr b="0" lang="en-US" sz="18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PA Contract Discussion</a:t>
            </a:r>
            <a:endParaRPr b="1" lang="en-US" sz="2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Commercial Operation Date</a:t>
            </a:r>
            <a:endParaRPr b="1" lang="en-US" sz="2000" spc="-1" strike="noStrike">
              <a:solidFill>
                <a:srgbClr val="000000"/>
              </a:solidFill>
              <a:latin typeface="Arial"/>
            </a:endParaRPr>
          </a:p>
        </p:txBody>
      </p:sp>
      <p:sp>
        <p:nvSpPr>
          <p:cNvPr id="6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 may be necessary to meet high loads in a particular seas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elay to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sts of running old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from not being able to meet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 maintenance schedul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mmercial Operation Date” means the date on which the Department accepts the Seller's certification that all the requirements of commercial operation of the Facility have been achieved.  Such acceptance shall occur within ten Business Days of the Off-taker's receipt of a complete Performance Test Report. The determination as to whether a Performance Test Report will be deemed “complete” shall be within the Off-taker’s sole discretion.</a:t>
            </a:r>
            <a:endParaRPr b="0" lang="en-US" sz="1800" spc="-1" strike="noStrike">
              <a:solidFill>
                <a:srgbClr val="000000"/>
              </a:solidFill>
              <a:latin typeface="Arial"/>
            </a:endParaRPr>
          </a:p>
        </p:txBody>
      </p:sp>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a:t>
            </a:r>
            <a:endParaRPr b="1" lang="en-US" sz="2000" spc="-1" strike="noStrike">
              <a:solidFill>
                <a:srgbClr val="000000"/>
              </a:solidFill>
              <a:latin typeface="Arial"/>
            </a:endParaRPr>
          </a:p>
        </p:txBody>
      </p:sp>
      <p:sp>
        <p:nvSpPr>
          <p:cNvPr id="6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risks are fundamentally different in the pre- and post-completion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bear the risks before project completion (the loan has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exposure occurs when the project is up and running – revenues, operating costs and quantity produced must be evalu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letion test is part of many contracts including the construction contract, the loan agreement and the purchase contract.</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6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6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6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18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680" name="PlaceHolder 2"/>
          <p:cNvSpPr>
            <a:spLocks noGrp="1"/>
          </p:cNvSpPr>
          <p:nvPr>
            <p:ph/>
          </p:nvPr>
        </p:nvSpPr>
        <p:spPr>
          <a:xfrm>
            <a:off x="762120" y="1447560"/>
            <a:ext cx="7619760" cy="464796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6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6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Matrix</a:t>
            </a:r>
            <a:endParaRPr b="1" lang="en-US" sz="2000" spc="-1" strike="noStrike">
              <a:solidFill>
                <a:srgbClr val="000000"/>
              </a:solidFill>
              <a:latin typeface="Arial"/>
            </a:endParaRPr>
          </a:p>
        </p:txBody>
      </p:sp>
      <p:pic>
        <p:nvPicPr>
          <p:cNvPr id="686" name="Picture 3" descr=""/>
          <p:cNvPicPr/>
          <p:nvPr/>
        </p:nvPicPr>
        <p:blipFill>
          <a:blip r:embed="rId1"/>
          <a:stretch/>
        </p:blipFill>
        <p:spPr>
          <a:xfrm>
            <a:off x="228600" y="2057400"/>
            <a:ext cx="8669160" cy="367020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mponents of PPA</a:t>
            </a:r>
            <a:endParaRPr b="1" lang="en-US" sz="2000" spc="-1" strike="noStrike">
              <a:solidFill>
                <a:srgbClr val="000000"/>
              </a:solidFill>
              <a:latin typeface="Arial"/>
            </a:endParaRPr>
          </a:p>
        </p:txBody>
      </p:sp>
      <p:sp>
        <p:nvSpPr>
          <p:cNvPr id="1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of Facility and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facilities, general requirement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 PCOD and liquated damage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Tests and Commission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 and Testing</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Majeure Events</a:t>
            </a:r>
            <a:endParaRPr b="0" lang="en-US" sz="1800" spc="-1" strike="noStrike">
              <a:solidFill>
                <a:srgbClr val="000000"/>
              </a:solidFill>
              <a:latin typeface="Arial"/>
            </a:endParaRPr>
          </a:p>
          <a:p>
            <a:pPr marL="22716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6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6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692"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693"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697" name="PlaceHolder 2"/>
          <p:cNvSpPr>
            <a:spLocks noGrp="1"/>
          </p:cNvSpPr>
          <p:nvPr>
            <p:ph/>
          </p:nvPr>
        </p:nvSpPr>
        <p:spPr>
          <a:xfrm>
            <a:off x="762120" y="137160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Risk and PPA Agreements</a:t>
            </a:r>
            <a:endParaRPr b="1" lang="en-US" sz="2000" spc="-1" strike="noStrike">
              <a:solidFill>
                <a:srgbClr val="000000"/>
              </a:solidFill>
              <a:latin typeface="Arial"/>
            </a:endParaRPr>
          </a:p>
        </p:txBody>
      </p:sp>
      <p:sp>
        <p:nvSpPr>
          <p:cNvPr id="6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from Indexing PPA to US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Risk from Extreme Currency Fluctuat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Theory and Inflation Rate Differentia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of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Local Debt</a:t>
            </a:r>
            <a:endParaRPr b="0" lang="en-US" sz="1800" spc="-1" strike="noStrike">
              <a:solidFill>
                <a:srgbClr val="000000"/>
              </a:solidFill>
              <a:latin typeface="Arial"/>
            </a:endParaRPr>
          </a:p>
        </p:txBody>
      </p:sp>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7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7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70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  Valuation of Detailed PPA Provisions</a:t>
            </a:r>
            <a:endParaRPr b="1" lang="en-US" sz="2000" spc="-1" strike="noStrike">
              <a:solidFill>
                <a:srgbClr val="000000"/>
              </a:solidFill>
              <a:latin typeface="Arial"/>
            </a:endParaRPr>
          </a:p>
        </p:txBody>
      </p:sp>
      <p:sp>
        <p:nvSpPr>
          <p:cNvPr id="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bid prices for PPA with different financing terms (DSCR and Debt Structure) and different IRR require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PPA contract versus balance sheet plant from the perspective of off-tak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ing SPV risks related to delay, availability, heat rate degradation, heat rate targets, construction dela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 and incentives for plant efficiency with respect to heat rate curves, operation and maintenance an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renewable feed-in and PPA tariffs versus conventional PPA’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development cost and probability analysis</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urchased Power Agreement Pricing</a:t>
            </a:r>
            <a:endParaRPr b="1" lang="en-US" sz="2000" spc="-1" strike="noStrike">
              <a:solidFill>
                <a:srgbClr val="000000"/>
              </a:solidFill>
              <a:latin typeface="Arial"/>
            </a:endParaRPr>
          </a:p>
        </p:txBody>
      </p:sp>
      <p:sp>
        <p:nvSpPr>
          <p:cNvPr id="13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Capacity Payment</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debt service, taxes and equity return from project budge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ons for unavailability of plant</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cy  adjustments and currency spli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 Fixed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lates with general inflation</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have currency adjustment</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 Fuel Energy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target heat rate</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e only adjustments to under or over-use of fuel</a:t>
            </a:r>
            <a:endParaRPr b="0" lang="en-US" sz="12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 Variable O&amp;M Charge</a:t>
            </a:r>
            <a:endParaRPr b="0" lang="en-US" sz="14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fixed and variable costs </a:t>
            </a:r>
            <a:endParaRPr b="0" lang="en-US" sz="1200" spc="-1" strike="noStrike">
              <a:solidFill>
                <a:srgbClr val="000000"/>
              </a:solidFill>
              <a:latin typeface="Arial"/>
            </a:endParaRPr>
          </a:p>
          <a:p>
            <a:pPr lvl="2" marL="1343880" indent="-22392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up costs</a:t>
            </a:r>
            <a:endParaRPr b="0" lang="en-US" sz="1200" spc="-1" strike="noStrike">
              <a:solidFill>
                <a:srgbClr val="000000"/>
              </a:solidFill>
              <a:latin typeface="Arial"/>
            </a:endParaRPr>
          </a:p>
          <a:p>
            <a:pPr marL="227160" indent="-1695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70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712"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713"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4"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5"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716"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717"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8"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0"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721"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722"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723"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724"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7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729" name="PlaceHolder 2"/>
          <p:cNvSpPr>
            <a:spLocks noGrp="1"/>
          </p:cNvSpPr>
          <p:nvPr>
            <p:ph/>
          </p:nvPr>
        </p:nvSpPr>
        <p:spPr>
          <a:xfrm>
            <a:off x="533520" y="1295280"/>
            <a:ext cx="7772400" cy="472464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7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7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7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8" name="Picture 4" descr=""/>
          <p:cNvPicPr/>
          <p:nvPr/>
        </p:nvPicPr>
        <p:blipFill>
          <a:blip r:embed="rId1"/>
          <a:stretch/>
        </p:blipFill>
        <p:spPr>
          <a:xfrm>
            <a:off x="1143000" y="1447920"/>
            <a:ext cx="6334200" cy="2786040"/>
          </a:xfrm>
          <a:prstGeom prst="rect">
            <a:avLst/>
          </a:prstGeom>
          <a:ln w="0">
            <a:noFill/>
          </a:ln>
        </p:spPr>
      </p:pic>
      <p:pic>
        <p:nvPicPr>
          <p:cNvPr id="739"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741" name="Picture 3" descr=""/>
          <p:cNvPicPr/>
          <p:nvPr/>
        </p:nvPicPr>
        <p:blipFill>
          <a:blip r:embed="rId1"/>
          <a:stretch/>
        </p:blipFill>
        <p:spPr>
          <a:xfrm>
            <a:off x="2722680" y="3606840"/>
            <a:ext cx="3203280" cy="2387520"/>
          </a:xfrm>
          <a:prstGeom prst="rect">
            <a:avLst/>
          </a:prstGeom>
          <a:ln w="0">
            <a:noFill/>
          </a:ln>
        </p:spPr>
      </p:pic>
      <p:pic>
        <p:nvPicPr>
          <p:cNvPr id="742" name="Picture 4" descr=""/>
          <p:cNvPicPr/>
          <p:nvPr/>
        </p:nvPicPr>
        <p:blipFill>
          <a:blip r:embed="rId2"/>
          <a:stretch/>
        </p:blipFill>
        <p:spPr>
          <a:xfrm>
            <a:off x="2712960" y="3573360"/>
            <a:ext cx="3200400" cy="2378160"/>
          </a:xfrm>
          <a:prstGeom prst="rect">
            <a:avLst/>
          </a:prstGeom>
          <a:ln w="0">
            <a:noFill/>
          </a:ln>
        </p:spPr>
      </p:pic>
      <p:pic>
        <p:nvPicPr>
          <p:cNvPr id="743" name="Picture 5" descr=""/>
          <p:cNvPicPr/>
          <p:nvPr/>
        </p:nvPicPr>
        <p:blipFill>
          <a:blip r:embed="rId3"/>
          <a:stretch/>
        </p:blipFill>
        <p:spPr>
          <a:xfrm>
            <a:off x="1295280" y="1614600"/>
            <a:ext cx="3200400" cy="2365200"/>
          </a:xfrm>
          <a:prstGeom prst="rect">
            <a:avLst/>
          </a:prstGeom>
          <a:ln w="0">
            <a:noFill/>
          </a:ln>
        </p:spPr>
      </p:pic>
      <p:sp>
        <p:nvSpPr>
          <p:cNvPr id="74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74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74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4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74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74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75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75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75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75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75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75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75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75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5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76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6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76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76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6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766" name="Picture 3" descr=""/>
          <p:cNvPicPr/>
          <p:nvPr/>
        </p:nvPicPr>
        <p:blipFill>
          <a:blip r:embed="rId1"/>
          <a:stretch/>
        </p:blipFill>
        <p:spPr>
          <a:xfrm>
            <a:off x="2209680" y="1523880"/>
            <a:ext cx="4953240" cy="1725840"/>
          </a:xfrm>
          <a:prstGeom prst="rect">
            <a:avLst/>
          </a:prstGeom>
          <a:ln w="0">
            <a:noFill/>
          </a:ln>
        </p:spPr>
      </p:pic>
      <p:pic>
        <p:nvPicPr>
          <p:cNvPr id="767"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olicy Objectives for Electricity</a:t>
            </a:r>
            <a:endParaRPr b="1" lang="en-US" sz="2000" spc="-1" strike="noStrike">
              <a:solidFill>
                <a:srgbClr val="000000"/>
              </a:solidFill>
              <a:latin typeface="Arial"/>
            </a:endParaRPr>
          </a:p>
        </p:txBody>
      </p:sp>
      <p:sp>
        <p:nvSpPr>
          <p:cNvPr id="1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construct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x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of operating and maintain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iciency of operating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use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ful transfer to private investors</a:t>
            </a: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769"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770"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771"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77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775"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a:t>
            </a:r>
            <a:endParaRPr b="1" lang="en-US" sz="2000" spc="-1" strike="noStrike">
              <a:solidFill>
                <a:srgbClr val="000000"/>
              </a:solidFill>
              <a:latin typeface="Arial"/>
            </a:endParaRPr>
          </a:p>
        </p:txBody>
      </p:sp>
      <p:sp>
        <p:nvSpPr>
          <p:cNvPr id="7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78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7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 of Project Finance for Public Projects (Reference)</a:t>
            </a:r>
            <a:endParaRPr b="1" lang="en-US" sz="2000" spc="-1" strike="noStrike">
              <a:solidFill>
                <a:srgbClr val="000000"/>
              </a:solidFill>
              <a:latin typeface="Arial"/>
            </a:endParaRPr>
          </a:p>
        </p:txBody>
      </p:sp>
      <p:sp>
        <p:nvSpPr>
          <p:cNvPr id="7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complex, slow and has a high up-front cos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PPP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er total funding cos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reases investors’ financial capacity, so creating more competition for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ublic sector to assess and monitor project-specific da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rd-party due dilige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nefits for invest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reading ris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eater leverage, which may be off-balance shee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ce higher return on investmen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ables partnerships with different financial strengths to work together</a:t>
            </a:r>
            <a:endParaRPr b="0" lang="en-US" sz="1600" spc="-1" strike="noStrike">
              <a:solidFill>
                <a:srgbClr val="000000"/>
              </a:solidFill>
              <a:latin typeface="Arial"/>
            </a:endParaRPr>
          </a:p>
          <a:p>
            <a:pPr marL="2318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llocation using Different Policy Frameworks</a:t>
            </a:r>
            <a:endParaRPr b="1" lang="en-US" sz="2000" spc="-1" strike="noStrike">
              <a:solidFill>
                <a:srgbClr val="000000"/>
              </a:solidFill>
              <a:latin typeface="Arial"/>
            </a:endParaRPr>
          </a:p>
        </p:txBody>
      </p:sp>
      <p:sp>
        <p:nvSpPr>
          <p:cNvPr id="135" name=""/>
          <p:cNvSpPr txBox="1"/>
          <p:nvPr/>
        </p:nvSpPr>
        <p:spPr>
          <a:xfrm>
            <a:off x="456840" y="1219320"/>
            <a:ext cx="7924680" cy="487656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of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Cost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and Load Growth Risk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lation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Pric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t Rate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Over or Undersuppl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t Availabilit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Delay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Factor and Dispatch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 and Maintenance Cost Risk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7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791"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7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79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80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80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805"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06"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808"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9"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Risks in Electricity Industry</a:t>
            </a:r>
            <a:endParaRPr b="1" lang="en-US" sz="2000" spc="-1" strike="noStrike">
              <a:solidFill>
                <a:srgbClr val="000000"/>
              </a:solidFill>
              <a:latin typeface="Arial"/>
            </a:endParaRPr>
          </a:p>
        </p:txBody>
      </p:sp>
      <p:sp>
        <p:nvSpPr>
          <p:cNvPr id="1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Definition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Deviation and Mathematical Formulas (Nobel Priz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of Extreme Events (Outages, Price Spik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of Risk in Considering Policy Alternativ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native Perspectives of Risk</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um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ed Companie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s of Risk Measure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 of Electricity to Supplier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Generation Cost to Consumers</a:t>
            </a:r>
            <a:endParaRPr b="0" lang="en-US" sz="1400" spc="-1" strike="noStrike">
              <a:solidFill>
                <a:srgbClr val="000000"/>
              </a:solidFill>
              <a:latin typeface="Arial"/>
            </a:endParaRPr>
          </a:p>
        </p:txBody>
      </p:sp>
    </p:spTree>
  </p:cSld>
  <p:transition>
    <p:zoom dir="out"/>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81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812" name="Object 3"/>
          <p:cNvGraphicFramePr/>
          <p:nvPr/>
        </p:nvGraphicFramePr>
        <p:xfrm>
          <a:off x="1143000" y="2408400"/>
          <a:ext cx="6858000" cy="3290760"/>
        </p:xfrm>
        <a:graphic>
          <a:graphicData uri="http://schemas.openxmlformats.org/presentationml/2006/ole">
            <p:oleObj progId="Word.Document.12" r:id="rId1" spid="">
              <p:embed/>
              <p:pic>
                <p:nvPicPr>
                  <p:cNvPr id="813"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5"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818"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19" name="Object 10"/>
          <p:cNvGraphicFramePr/>
          <p:nvPr/>
        </p:nvGraphicFramePr>
        <p:xfrm>
          <a:off x="1828800" y="2286000"/>
          <a:ext cx="5105520" cy="3819600"/>
        </p:xfrm>
        <a:graphic>
          <a:graphicData uri="http://schemas.openxmlformats.org/presentationml/2006/ole">
            <p:oleObj progId="Word.Document.12" r:id="rId1" spid="">
              <p:embed/>
              <p:pic>
                <p:nvPicPr>
                  <p:cNvPr id="820"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82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8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82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2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0" name="Picture 3" descr="MIGA"/>
          <p:cNvPicPr/>
          <p:nvPr/>
        </p:nvPicPr>
        <p:blipFill>
          <a:blip r:embed="rId1"/>
          <a:srcRect l="0" t="0" r="58092" b="0"/>
          <a:stretch/>
        </p:blipFill>
        <p:spPr>
          <a:xfrm>
            <a:off x="1066680" y="3200400"/>
            <a:ext cx="2603520" cy="1492200"/>
          </a:xfrm>
          <a:prstGeom prst="rect">
            <a:avLst/>
          </a:prstGeom>
          <a:ln w="0">
            <a:noFill/>
          </a:ln>
        </p:spPr>
      </p:pic>
      <p:pic>
        <p:nvPicPr>
          <p:cNvPr id="831" name="Picture 4" descr="MIGA"/>
          <p:cNvPicPr/>
          <p:nvPr/>
        </p:nvPicPr>
        <p:blipFill>
          <a:blip r:embed="rId2"/>
          <a:srcRect l="65066" t="0" r="2726" b="0"/>
          <a:stretch/>
        </p:blipFill>
        <p:spPr>
          <a:xfrm>
            <a:off x="4343400" y="3067200"/>
            <a:ext cx="2182680" cy="1628640"/>
          </a:xfrm>
          <a:prstGeom prst="rect">
            <a:avLst/>
          </a:prstGeom>
          <a:ln w="0">
            <a:noFill/>
          </a:ln>
        </p:spPr>
      </p:pic>
      <p:sp>
        <p:nvSpPr>
          <p:cNvPr id="83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Risk</a:t>
            </a:r>
            <a:endParaRPr b="1" lang="en-US" sz="2000" spc="-1" strike="noStrike">
              <a:solidFill>
                <a:srgbClr val="000000"/>
              </a:solidFill>
              <a:latin typeface="Arial"/>
            </a:endParaRPr>
          </a:p>
        </p:txBody>
      </p:sp>
      <p:sp>
        <p:nvSpPr>
          <p:cNvPr id="13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s in efficiency by imposing risk on parties that are in the best position to understand and to manag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better economic decisions will be made if equity investors must take ris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of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that can be managed and controlled is subject to some deb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s</a:t>
            </a:r>
            <a:endParaRPr b="0" lang="en-US" sz="1800" spc="-1" strike="noStrike">
              <a:solidFill>
                <a:srgbClr val="000000"/>
              </a:solidFill>
              <a:latin typeface="Arial"/>
            </a:endParaRPr>
          </a:p>
        </p:txBody>
      </p:sp>
    </p:spTree>
  </p:cSld>
  <p:transition>
    <p:zoom dir="out"/>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4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5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Risk in Market Prices of Electricity and Merchant Power</a:t>
            </a:r>
            <a:endParaRPr b="1" lang="en-US" sz="2000" spc="-1" strike="noStrike">
              <a:solidFill>
                <a:srgbClr val="000000"/>
              </a:solidFill>
              <a:latin typeface="Arial"/>
            </a:endParaRPr>
          </a:p>
        </p:txBody>
      </p:sp>
      <p:sp>
        <p:nvSpPr>
          <p:cNvPr id="14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Volat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in Hydro and Other Renewable Resour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New Suppl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Fuel Suppl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cies and Market Pow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Technology</a:t>
            </a:r>
            <a:endParaRPr b="0" lang="en-US" sz="1800" spc="-1" strike="noStrike">
              <a:solidFill>
                <a:srgbClr val="000000"/>
              </a:solidFill>
              <a:latin typeface="Arial"/>
            </a:endParaRPr>
          </a:p>
        </p:txBody>
      </p:sp>
    </p:spTree>
  </p:cSld>
  <p:transition>
    <p:zoom dir="out"/>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8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3" name=""/>
          <p:cNvSpPr txBox="1"/>
          <p:nvPr/>
        </p:nvSpPr>
        <p:spPr>
          <a:xfrm>
            <a:off x="685440" y="1295280"/>
            <a:ext cx="7620120" cy="4572000"/>
          </a:xfrm>
          <a:prstGeom prst="rect">
            <a:avLst/>
          </a:prstGeom>
          <a:noFill/>
          <a:ln w="0">
            <a:noFill/>
          </a:ln>
        </p:spPr>
        <p:txBody>
          <a:bodyPr lIns="92160" rIns="92160" tIns="46080" bIns="46080" anchor="t">
            <a:normAutofit/>
          </a:bodyPr>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ower Purchase Agreements are dispatchable contracts that provide the utilities with the ability to suspend or reduce purchases of electricity from the Facilities. The Power Purchase Agreements are structured such that the SPV will continue to receive capacity payments during any period of dispatch. Each SPV is dependent on capacity payments under its PPA to meet its fixed obligations, including the payment of debt service under each SPV's First Mortgage Bonds.</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acity payments by each of off-taker are based on the tested capacity and availability of the Facilities and are unaffected by levels of dispatch. Each Facility's capacity is subject to semi-annual verification through testing. Capacity payments are subject to reduction if a Facility is operating at reduced or degraded capacity at the time of such test, although each Facility is permitted a retest subject to certain retest limitations. Also, capacity payments for each Facility are subject to reduction if the respective Facility does not maintain certain minimum levels of availability.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PV expects to achieve the minimum capacity and availability levels; however, any material shortfall in tested capacity or availability over a significant period could result in a shortage of funds to the SPV. </a:t>
            </a: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31840" indent="-173160">
              <a:spcBef>
                <a:spcPts val="374"/>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s of SPV – Discussion in Financial Statement</a:t>
            </a:r>
            <a:endParaRPr b="1" lang="en-US" sz="2000" spc="-1" strike="noStrike">
              <a:solidFill>
                <a:srgbClr val="000000"/>
              </a:solidFill>
              <a:latin typeface="Arial"/>
            </a:endParaRPr>
          </a:p>
        </p:txBody>
      </p:sp>
      <p:sp>
        <p:nvSpPr>
          <p:cNvPr id="145" name=""/>
          <p:cNvSpPr txBox="1"/>
          <p:nvPr/>
        </p:nvSpPr>
        <p:spPr>
          <a:xfrm>
            <a:off x="837720" y="1294920"/>
            <a:ext cx="7620120" cy="4800600"/>
          </a:xfrm>
          <a:prstGeom prst="rect">
            <a:avLst/>
          </a:prstGeom>
          <a:noFill/>
          <a:ln w="0">
            <a:noFill/>
          </a:ln>
        </p:spPr>
        <p:txBody>
          <a:bodyPr lIns="92160" rIns="92160" tIns="46080" bIns="46080" anchor="t">
            <a:normAutofit fontScale="97000"/>
          </a:bodyPr>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of a Facility below expected levels of output or efficienc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ions in fuel suppl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disruption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ruptions in the supply of thermal or electrical energy</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hut-downs due to the breakdown or failure of equipment or process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olation of permit requirements (whether through operation or change in law)</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or error</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disputes</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strophic events such as fires, earthquakes, explosions, floods or other similar occurrences affecting a Facility or its power purchasers, thermal energy purchasers, fuel suppliers or fuel transporters. </a:t>
            </a:r>
            <a:endParaRPr b="0" lang="en-US" sz="1400" spc="-1" strike="noStrike">
              <a:solidFill>
                <a:srgbClr val="000000"/>
              </a:solidFill>
              <a:latin typeface="Arial"/>
            </a:endParaRPr>
          </a:p>
          <a:p>
            <a:pPr marL="224640" indent="-1677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all risks are insured and the proceeds of such insurance applicable to covered risks may not be adequate to cover a Facility's lost revenues or increased expenses. In addition, extended unavailability under the Power Purchase Agreements, which may result from one or more of such events, may entitle the respective Power Purchaser to terminate its Power Purchase Agreement. </a:t>
            </a:r>
            <a:endParaRPr b="0" lang="en-US" sz="14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icing and Energy Conversion Agreement Example</a:t>
            </a:r>
            <a:endParaRPr b="1" lang="en-US" sz="2000" spc="-1" strike="noStrike">
              <a:solidFill>
                <a:srgbClr val="000000"/>
              </a:solidFill>
              <a:latin typeface="Arial"/>
            </a:endParaRPr>
          </a:p>
        </p:txBody>
      </p:sp>
      <p:sp>
        <p:nvSpPr>
          <p:cNvPr id="147"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ach month of the term after the commercial operation date, off-taker must pay the SPV for the facility’s net capacity, successful start-ups and associated shutdowns, other services and fuel conversion services at the applicable rates described in the PPA.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monthly payment will consist of</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otal fixed payment, </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uel conversion payment and,</a:t>
            </a:r>
            <a:endParaRPr b="0" lang="en-US" sz="1400" spc="-1" strike="noStrike">
              <a:solidFill>
                <a:srgbClr val="000000"/>
              </a:solidFill>
              <a:latin typeface="Arial"/>
            </a:endParaRPr>
          </a:p>
          <a:p>
            <a:pPr lvl="1" marL="838440" indent="-28296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start-up payment.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fixed payment, which is payable regardless of facility dispatch but is subject to adjustment based on facility availability, is calculated by multiplying a fixed capacity rate for each contract year by the facility’s net capacity in the billing month and is anticipated to be sufficient to cover the SPV’s debt service and fixed operating and maintenance costs and to provide the Company a return on equity. </a:t>
            </a:r>
            <a:endParaRPr b="0" lang="en-US" sz="1400" spc="-1" strike="noStrike">
              <a:solidFill>
                <a:srgbClr val="000000"/>
              </a:solidFill>
              <a:latin typeface="Arial"/>
            </a:endParaRPr>
          </a:p>
          <a:p>
            <a:pPr marL="227160" indent="-1695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nversion payment is intended to cover the SPV’s variable operating and maintenance costs and escalates annually based on an escalation index described in the PPA. The start-up payment is intended to cover the SPV’s non-fuel variable costs when the plant is starting up to meet a dispatch request. In addition, the SPV may receive heat rate bonuses or be required to pay heat rate penalties.</a:t>
            </a:r>
            <a:endParaRPr b="0" lang="en-US" sz="1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a:t>
            </a:r>
            <a:endParaRPr b="1" lang="en-US" sz="2000" spc="-1" strike="noStrike">
              <a:solidFill>
                <a:srgbClr val="000000"/>
              </a:solidFill>
              <a:latin typeface="Arial"/>
            </a:endParaRPr>
          </a:p>
        </p:txBody>
      </p:sp>
      <p:sp>
        <p:nvSpPr>
          <p:cNvPr id="1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remain relatively stable because the amounts do not vary with dispatch. Price increases are contractually provid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ayments include a bonus or penalty payment if actual capacity is in excess of or below specified levels of available capac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of the energy payment is derived from a contractual formula defined in the PPA based on the actual cost of domestic coal at another FPL pla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al cost component is escalated according to the index in the  long- term domestic coal contract.</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Challenging Issues for Project Finance and Modelling</a:t>
            </a:r>
            <a:endParaRPr b="1" lang="en-US" sz="2000" spc="-1" strike="noStrike">
              <a:solidFill>
                <a:srgbClr val="000000"/>
              </a:solidFill>
              <a:latin typeface="Arial"/>
            </a:endParaRPr>
          </a:p>
        </p:txBody>
      </p:sp>
      <p:sp>
        <p:nvSpPr>
          <p:cNvPr id="98"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sculpting and timing of draw-down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of Equity IRR with Equity Bridge Loa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risks related to currency changes and interest rate chang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f the credit quality of the off-taker</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the PPA price relative to the economic cost of electricity</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risks associated with risks that are allocated to off-taker and risks that remain with SPV for purposes of negotiating specific term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ing Issues including resolution of circular references/cash flow waterfalls, structuring of time lines</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structuring provisions related to covenants, cash flow sweeps, back-up facilities and debt service reserve account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onversion Agreement</a:t>
            </a:r>
            <a:endParaRPr b="1" lang="en-US" sz="2000" spc="-1" strike="noStrike">
              <a:solidFill>
                <a:srgbClr val="000000"/>
              </a:solidFill>
              <a:latin typeface="Arial"/>
            </a:endParaRPr>
          </a:p>
        </p:txBody>
      </p:sp>
      <p:sp>
        <p:nvSpPr>
          <p:cNvPr id="1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taker will be responsible for supplying the Project Company with gas on an energy conversion basi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nt’s gas will be supplied to the Plant via the Fuel Connection Facilities (“FCF”), which will include a gas interconnection to an existing pipeline near the Site. </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Payment</a:t>
            </a:r>
            <a:endParaRPr b="1" lang="en-US" sz="2000" spc="-1" strike="noStrike">
              <a:solidFill>
                <a:srgbClr val="000000"/>
              </a:solidFill>
              <a:latin typeface="Arial"/>
            </a:endParaRPr>
          </a:p>
        </p:txBody>
      </p:sp>
      <p:sp>
        <p:nvSpPr>
          <p:cNvPr id="15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cing on the Commercial Operation Date and for the remainder of the Term, the  off-taker shall pay the Capacity Payment, on a monthly basis in arrears, regardless of whether the off-taker requests that the Seller deliver Energy from the Fac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Capacity Payment shall be a monthly charge established as of the Department Commitment Time for each calendar year based on a formula and allocated among months (shaped) on a $ per MW-mo basis and include a separate component that covers debt service,  equity returns and taxes and a component that covers fixed operation and maintenance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 Risk</a:t>
            </a:r>
            <a:endParaRPr b="1" lang="en-US" sz="2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56"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158" name="Content Placeholder 3" descr=""/>
          <p:cNvPicPr/>
          <p:nvPr/>
        </p:nvPicPr>
        <p:blipFill>
          <a:blip r:embed="rId1"/>
          <a:stretch/>
        </p:blipFill>
        <p:spPr>
          <a:xfrm>
            <a:off x="304920" y="1981080"/>
            <a:ext cx="4038480" cy="3048120"/>
          </a:xfrm>
          <a:prstGeom prst="rect">
            <a:avLst/>
          </a:prstGeom>
          <a:ln w="0">
            <a:noFill/>
          </a:ln>
        </p:spPr>
      </p:pic>
      <p:pic>
        <p:nvPicPr>
          <p:cNvPr id="159"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161"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Comparison</a:t>
            </a:r>
            <a:endParaRPr b="1" lang="en-US" sz="2000" spc="-1" strike="noStrike">
              <a:solidFill>
                <a:srgbClr val="000000"/>
              </a:solidFill>
              <a:latin typeface="Arial"/>
            </a:endParaRPr>
          </a:p>
        </p:txBody>
      </p:sp>
      <p:pic>
        <p:nvPicPr>
          <p:cNvPr id="163" name="Picture 2" descr=""/>
          <p:cNvPicPr/>
          <p:nvPr/>
        </p:nvPicPr>
        <p:blipFill>
          <a:blip r:embed="rId1"/>
          <a:stretch/>
        </p:blipFill>
        <p:spPr>
          <a:xfrm>
            <a:off x="1219320" y="1295280"/>
            <a:ext cx="6705360" cy="4876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y and Demand Balance Risk</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plus Capacity Risk</a:t>
            </a:r>
            <a:endParaRPr b="1" lang="en-US" sz="2000" spc="-1" strike="noStrike">
              <a:solidFill>
                <a:srgbClr val="000000"/>
              </a:solidFill>
              <a:latin typeface="Arial"/>
            </a:endParaRPr>
          </a:p>
        </p:txBody>
      </p:sp>
      <p:pic>
        <p:nvPicPr>
          <p:cNvPr id="166" name="Picture 2" descr=""/>
          <p:cNvPicPr/>
          <p:nvPr/>
        </p:nvPicPr>
        <p:blipFill>
          <a:blip r:embed="rId1"/>
          <a:stretch/>
        </p:blipFill>
        <p:spPr>
          <a:xfrm>
            <a:off x="1295280" y="1054080"/>
            <a:ext cx="6934320" cy="522432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K Oversupply in Merchant Market</a:t>
            </a:r>
            <a:endParaRPr b="1" lang="en-US" sz="2000" spc="-1" strike="noStrike">
              <a:solidFill>
                <a:srgbClr val="000000"/>
              </a:solidFill>
              <a:latin typeface="Arial"/>
            </a:endParaRPr>
          </a:p>
        </p:txBody>
      </p:sp>
      <p:pic>
        <p:nvPicPr>
          <p:cNvPr id="168" name="Picture 7" descr=""/>
          <p:cNvPicPr/>
          <p:nvPr/>
        </p:nvPicPr>
        <p:blipFill>
          <a:blip r:embed="rId1"/>
          <a:stretch/>
        </p:blipFill>
        <p:spPr>
          <a:xfrm>
            <a:off x="1143000" y="1447920"/>
            <a:ext cx="6388200" cy="46353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s</a:t>
            </a:r>
            <a:endParaRPr b="1" lang="en-US" sz="2000" spc="-1" strike="noStrike">
              <a:solidFill>
                <a:srgbClr val="000000"/>
              </a:solidFill>
              <a:latin typeface="Arial"/>
            </a:endParaRPr>
          </a:p>
        </p:txBody>
      </p:sp>
      <p:sp>
        <p:nvSpPr>
          <p:cNvPr id="100" name=""/>
          <p:cNvSpPr txBox="1"/>
          <p:nvPr/>
        </p:nvSpPr>
        <p:spPr>
          <a:xfrm>
            <a:off x="609480" y="1371240"/>
            <a:ext cx="777240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and Definition of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Ter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Discuss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 Policy Alternatives and IPP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entina and Chile Case: Government Ownership</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 Case: Competitive Generation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s Case: IPP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ar Plants in U.S.: Regulated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of Plants with PPA’s</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Energy Value  for NGCC – PJM Market</a:t>
            </a:r>
            <a:endParaRPr b="1" lang="en-US" sz="2000" spc="-1" strike="noStrike">
              <a:solidFill>
                <a:srgbClr val="000000"/>
              </a:solidFill>
              <a:latin typeface="Arial"/>
            </a:endParaRPr>
          </a:p>
        </p:txBody>
      </p:sp>
      <p:pic>
        <p:nvPicPr>
          <p:cNvPr id="170"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on Risks Associated with Surplus Supply</a:t>
            </a:r>
            <a:endParaRPr b="1" lang="en-US" sz="2000" spc="-1" strike="noStrike">
              <a:solidFill>
                <a:srgbClr val="000000"/>
              </a:solidFill>
              <a:latin typeface="Arial"/>
            </a:endParaRPr>
          </a:p>
        </p:txBody>
      </p:sp>
      <p:sp>
        <p:nvSpPr>
          <p:cNvPr id="1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structive consequence of operating in a fragmented industry with low barriers to entry is a susceptibility to “book-bust” cycles, not unlike mining, chemical, and pulp and paper industr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umpiness with which new generation enters the market and its longevity may threaten extended time frames at the bottom of the merchant business cyc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merchant power industry appears to be reaching the end of a build-out period, energy merchants will likely have to confront surplus reserve margins for years to come.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el Price Risk</a:t>
            </a:r>
            <a:endParaRPr b="1" lang="en-US" sz="2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PPA Provisions</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ty of Government Provides Fuel Supply to IPP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Provides an Approved Fuel Pl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Price from Published Inde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rice from Weighted Average Gas Price of Utility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Supply Contracts and Matching Costs</a:t>
            </a:r>
            <a:endParaRPr b="1" lang="en-US" sz="2000" spc="-1" strike="noStrike">
              <a:solidFill>
                <a:srgbClr val="000000"/>
              </a:solidFill>
              <a:latin typeface="Arial"/>
            </a:endParaRPr>
          </a:p>
        </p:txBody>
      </p:sp>
      <p:sp>
        <p:nvSpPr>
          <p:cNvPr id="1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s supply contracts provide 100% of the expected gas requirements of the plant. The gas price components of the gas supply agreements are priced at market based indices and are structured to provide matching changes in energy payments under the PP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events negatively impacted the business and prospects of the gas supplier resulting in downgrades in the credit ratings to non-investment grade by each of the major rating agenc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ailure to perform under the gas supply contracts may have a material adverse effect on the SPV. While management believes that alternative natural gas supplies at market-based prices can be obtained so as to ensure against interruption, no assurance can be given that the replacement arrangements would have terms commercially equivalent to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9" name="Picture 1" descr=""/>
          <p:cNvPicPr/>
          <p:nvPr/>
        </p:nvPicPr>
        <p:blipFill>
          <a:blip r:embed="rId1"/>
          <a:stretch/>
        </p:blipFill>
        <p:spPr>
          <a:xfrm>
            <a:off x="1143000" y="1309680"/>
            <a:ext cx="6629400" cy="4819680"/>
          </a:xfrm>
          <a:prstGeom prst="rect">
            <a:avLst/>
          </a:prstGeom>
          <a:ln w="0">
            <a:noFill/>
          </a:ln>
        </p:spPr>
      </p:pic>
      <p:sp>
        <p:nvSpPr>
          <p:cNvPr id="180"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2"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5" name="Content Placeholder 6" descr=""/>
          <p:cNvPicPr/>
          <p:nvPr/>
        </p:nvPicPr>
        <p:blipFill>
          <a:blip r:embed="rId1"/>
          <a:stretch/>
        </p:blipFill>
        <p:spPr>
          <a:xfrm>
            <a:off x="682560" y="1603440"/>
            <a:ext cx="7925040" cy="421776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ny areas of the world, plants on the margin are often natural gas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 plants can be less exposed to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 is less sensitive to natural gas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between various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Purchasing Fuel</a:t>
            </a: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Examples for Fuel Component</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wer purchase agreements for our facilities typically include a fixed capacity payment, an escalating operations and maintenance payment tied to an inflation index and a fuel expense component tied to the utility's weighted average cost of gas ("WACOG") or another measure. The fuel components of the Camden and Bayonne power purchase agreements historically have been well correlated to our actual fuel costs. The fuel component in one of the Bayonne agreements is based on the utility's prior year's WACOG resulting in a lag between reimbursement of fuel costs and actual costs. </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el component in the Linden power purchase agreement is based on a cap indexed to the purchaser's, Con Ed's, weighted average cost of gas. Con Ed reimburses the project for its actual fuel costs throughout the year. At the end of the contract year, actual costs are compared to the cap. If Linden Venture's fuel costs exceed the cap, Linden Venture reimburses Con Ed for the excess over the next 12 months. If fuel costs are below the cap, Linden Venture and Con Ed split the difference on a 50/50 basis and Con Ed reimburses Linden Venture for its share of the savings over the next 12 months. Linden Venture‘s fuel costs have exceeded the cap established by Con Ed's WACOG in four of the past six years. Con Ed purchases gas both for distribution to its local gas customers and as fuel for its gas-fired generating plants. Linden Venture's results were adversely affected by a nuclear plant outage which increased Con Ed's gas purchases to run gas-fired power plants and therefore lowered Con Ed's WACOG. Distributions to us from Linden Venture will continue to be impacted by our ability to manage our fuel costs against Con Ed's WACOG. </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iciency in Fuel Contracting</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tiating Fuel Prices in Long-term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 Long-term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ng Fuel Transport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ging Strategy of Fuel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s simple as fuel price allocation to off-taker</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e Study – Plant in India Developed by Tatar and Others</a:t>
            </a:r>
            <a:endParaRPr b="1" lang="en-US" sz="2000" spc="-1" strike="noStrike">
              <a:solidFill>
                <a:srgbClr val="000000"/>
              </a:solidFill>
              <a:latin typeface="Arial"/>
            </a:endParaRPr>
          </a:p>
        </p:txBody>
      </p:sp>
      <p:sp>
        <p:nvSpPr>
          <p:cNvPr id="1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imports coal from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d on the basis of coal prices in Indonesia versus standard coal prices from Indian coal suppli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imposed by Indonesia on coal expor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rease in Indonesia for demand increases and other r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developer owns the coal mine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ions</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 Renewable and Thermal</a:t>
            </a:r>
            <a:endParaRPr b="1" lang="en-US" sz="2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Factor</a:t>
            </a:r>
            <a:endParaRPr b="1" lang="en-US" sz="2000" spc="-1" strike="noStrike">
              <a:solidFill>
                <a:srgbClr val="000000"/>
              </a:solidFill>
              <a:latin typeface="Arial"/>
            </a:endParaRPr>
          </a:p>
        </p:txBody>
      </p:sp>
      <p:sp>
        <p:nvSpPr>
          <p:cNvPr id="19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 Capacity Factor versus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 over Time Period Divided by Maximum Potential Gener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se for Capacity Factor Var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enewable Resour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Scheduled Outage of Other Un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Random Out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Fue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Variation in Hydro Capacity Factor – Applies to Wind, Solar and Tidal</a:t>
            </a:r>
            <a:endParaRPr b="1" lang="en-US" sz="2000" spc="-1" strike="noStrike">
              <a:solidFill>
                <a:srgbClr val="000000"/>
              </a:solidFill>
              <a:latin typeface="Arial"/>
            </a:endParaRPr>
          </a:p>
        </p:txBody>
      </p:sp>
      <p:pic>
        <p:nvPicPr>
          <p:cNvPr id="198" name="Picture 2" descr=""/>
          <p:cNvPicPr/>
          <p:nvPr/>
        </p:nvPicPr>
        <p:blipFill>
          <a:blip r:embed="rId1"/>
          <a:stretch/>
        </p:blipFill>
        <p:spPr>
          <a:xfrm>
            <a:off x="1427040" y="1523880"/>
            <a:ext cx="6289920" cy="4572000"/>
          </a:xfrm>
          <a:prstGeom prst="rect">
            <a:avLst/>
          </a:prstGeom>
          <a:ln w="0">
            <a:noFill/>
          </a:ln>
        </p:spPr>
      </p:pic>
      <p:sp>
        <p:nvSpPr>
          <p:cNvPr id="199" name="TextBox 3"/>
          <p:cNvSpPr/>
          <p:nvPr/>
        </p:nvSpPr>
        <p:spPr>
          <a:xfrm>
            <a:off x="7162920" y="1295280"/>
            <a:ext cx="18288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ata on DVD and downloading directly to excel usin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OPEN</a:t>
            </a:r>
            <a:endParaRPr b="0" lang="en-US" sz="12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ing and Dispatch of IPPs</a:t>
            </a:r>
            <a:endParaRPr b="1" lang="en-US" sz="2000" spc="-1" strike="noStrike">
              <a:solidFill>
                <a:srgbClr val="000000"/>
              </a:solidFill>
              <a:latin typeface="Arial"/>
            </a:endParaRPr>
          </a:p>
        </p:txBody>
      </p:sp>
      <p:sp>
        <p:nvSpPr>
          <p:cNvPr id="2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Problem of Scheduling and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Minimums, Start-up Costs, Ramp-up Rates and Heat Rate Curves, units must be scheduled a day in adv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agreements should specify how units a scheduled a day ahead</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ility in Hydro and Thermal Generation – Georgia Example</a:t>
            </a:r>
            <a:endParaRPr b="1" lang="en-US" sz="2000" spc="-1" strike="noStrike">
              <a:solidFill>
                <a:srgbClr val="000000"/>
              </a:solidFill>
              <a:latin typeface="Arial"/>
            </a:endParaRPr>
          </a:p>
        </p:txBody>
      </p:sp>
      <p:pic>
        <p:nvPicPr>
          <p:cNvPr id="203" name="Picture 1" descr=""/>
          <p:cNvPicPr/>
          <p:nvPr/>
        </p:nvPicPr>
        <p:blipFill>
          <a:blip r:embed="rId1"/>
          <a:stretch/>
        </p:blipFill>
        <p:spPr>
          <a:xfrm>
            <a:off x="1434960" y="1523880"/>
            <a:ext cx="62740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ss Test Analysis</a:t>
            </a:r>
            <a:endParaRPr b="1" lang="en-US" sz="2000" spc="-1" strike="noStrike">
              <a:solidFill>
                <a:srgbClr val="000000"/>
              </a:solidFill>
              <a:latin typeface="Arial"/>
            </a:endParaRPr>
          </a:p>
        </p:txBody>
      </p:sp>
      <p:pic>
        <p:nvPicPr>
          <p:cNvPr id="205" name="Picture 2" descr=""/>
          <p:cNvPicPr/>
          <p:nvPr/>
        </p:nvPicPr>
        <p:blipFill>
          <a:blip r:embed="rId1"/>
          <a:stretch/>
        </p:blipFill>
        <p:spPr>
          <a:xfrm>
            <a:off x="609480" y="2438280"/>
            <a:ext cx="7620120" cy="195588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ailability Risk</a:t>
            </a:r>
            <a:endParaRPr b="1" lang="en-US" sz="2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s of Variation in Availability</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or Forced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 schedule for approval from off-tak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with other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 of optimal maintenance perio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for maintenance ou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ies can be imposed for maintenance during peak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reventative Mainte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Operations</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1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Forced Outage</a:t>
            </a:r>
            <a:endParaRPr b="1" lang="en-US" sz="2000" spc="-1" strike="noStrike">
              <a:solidFill>
                <a:srgbClr val="000000"/>
              </a:solidFill>
              <a:latin typeface="Arial"/>
            </a:endParaRPr>
          </a:p>
        </p:txBody>
      </p:sp>
      <p:sp>
        <p:nvSpPr>
          <p:cNvPr id="2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Forced Outage" - during periods other than Planned Outages or Maintenance Outages, the Facility is unable to engage in Dispatch Operation, or the Facility is declared by Seller to be in a Total Forced Outage for what would otherwise be a Partial Forced Outag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Forced Outage" - during periods other than Planned Outages or Maintenance Outages, the Facility is partially able to engage in Dispatch Operation, and has not been declared by Seller to be in a Total Forced Outage</a:t>
            </a:r>
            <a:endParaRPr b="0" lang="en-US" sz="18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212"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213"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215" name="Picture 2" descr=""/>
          <p:cNvPicPr/>
          <p:nvPr/>
        </p:nvPicPr>
        <p:blipFill>
          <a:blip r:embed="rId1"/>
          <a:stretch/>
        </p:blipFill>
        <p:spPr>
          <a:xfrm>
            <a:off x="1427040" y="1523880"/>
            <a:ext cx="6289920" cy="4572000"/>
          </a:xfrm>
          <a:prstGeom prst="rect">
            <a:avLst/>
          </a:prstGeom>
          <a:ln w="0">
            <a:noFill/>
          </a:ln>
        </p:spPr>
      </p:pic>
      <p:sp>
        <p:nvSpPr>
          <p:cNvPr id="216"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220"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pacity  Charge Mechanics in PPA</a:t>
            </a:r>
            <a:endParaRPr b="1" lang="en-US" sz="2000" spc="-1" strike="noStrike">
              <a:solidFill>
                <a:srgbClr val="000000"/>
              </a:solidFill>
              <a:latin typeface="Arial"/>
            </a:endParaRPr>
          </a:p>
        </p:txBody>
      </p:sp>
      <p:sp>
        <p:nvSpPr>
          <p:cNvPr id="2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yment without Penal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CR</a:t>
            </a:r>
            <a:r>
              <a:rPr b="0" lang="en-GB" sz="1800" spc="-1" strike="noStrike" baseline="-25000">
                <a:solidFill>
                  <a:srgbClr val="000000"/>
                </a:solidFill>
                <a:latin typeface="Arial"/>
              </a:rPr>
              <a:t> </a:t>
            </a:r>
            <a:r>
              <a:rPr b="0" lang="en-GB" sz="1800" spc="-1" strike="noStrike">
                <a:solidFill>
                  <a:srgbClr val="000000"/>
                </a:solidFill>
                <a:latin typeface="Arial"/>
              </a:rPr>
              <a:t>=</a:t>
            </a:r>
            <a:r>
              <a:rPr b="0" lang="en-GB" sz="1800" spc="-1" strike="noStrike" baseline="-25000">
                <a:solidFill>
                  <a:srgbClr val="000000"/>
                </a:solidFill>
                <a:latin typeface="Arial"/>
              </a:rPr>
              <a:t> </a:t>
            </a:r>
            <a:r>
              <a:rPr b="0" lang="en-GB" sz="1800" spc="-1" strike="noStrike">
                <a:solidFill>
                  <a:srgbClr val="000000"/>
                </a:solidFill>
                <a:latin typeface="Arial"/>
              </a:rPr>
              <a:t>Capital Cost Recovery Charge Rate per k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C  =  Net Dependable Capacity (in MW) for Billing Period 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ayment = CCR x DC x Hours in Perio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Penalty for Base Load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Energy Loss – (Projected  Energy Loss – Actual Energy Loss) x Coefficient x Payment Deduction Factor</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iquidated Damanges for Plant Capacity in PPA Contract</a:t>
            </a:r>
            <a:endParaRPr b="1" lang="en-US" sz="2000" spc="-1" strike="noStrike">
              <a:solidFill>
                <a:srgbClr val="000000"/>
              </a:solidFill>
              <a:latin typeface="Arial"/>
            </a:endParaRPr>
          </a:p>
        </p:txBody>
      </p:sp>
      <p:sp>
        <p:nvSpPr>
          <p:cNvPr id="22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llowing the undertaking of the Performance Tests prior to the Commercial Operation Date, the Net Dependable Capacity at the Point of Delivery is less than the Rated Capacity, Seller shall pay to CEB an amount of liquidated damages (“Performance Liquidated Damages”) of US$[] per kW (or part thereof) multiplied by the difference (expressed in kW) between the Rated Capacity and the Net Dependable Capacity of the Facility as proven by the Performance Te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s of Liquidated Dama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pays less over the course of th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er must secure additional capacity to meet reserve requir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Example for Non Baseload Plant</a:t>
            </a:r>
            <a:endParaRPr b="1" lang="en-US" sz="2000" spc="-1" strike="noStrike">
              <a:solidFill>
                <a:srgbClr val="000000"/>
              </a:solidFill>
              <a:latin typeface="Arial"/>
            </a:endParaRPr>
          </a:p>
        </p:txBody>
      </p:sp>
      <p:sp>
        <p:nvSpPr>
          <p:cNvPr id="2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ted Capacity for purposes of calculating the Capacity Payment will be established by testing and adjustment as follows: During the period beginning June 1 and ending June 30 in each year, the SPV will conduct a four hour performance test of the Facility during operations using installed instrumentation, calibrated by the SPV to determine the maximum MW output of the Facility.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he off-taker and the SPV may request up to two additional tests per year (at any time) utilizing the same four hour test procedures. After each test, the SPV will use performance curves certified by the original equipment manufacturer/architect engineer/vendor to adjust the test results to ISO Conditions.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 Condition-adjusted test results will be the “Rated Capacity,” effective on the first day of the month following the month in which the off-taker receives written notice of the test results or as of the Commercial Operation Date, as the case may be.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ff-taker is entitled to witness any test of the Facility. The off-taker may request third party calibration of instrumentation used in any test, and in the event that a deviation equal to or more than 2% is found, the SPV shall bear the cost of such calibration, and if the instrumentation is within 2% deviation then the off-taker shall bear such cost. The results of the tests shall be used to adjust the Rated Capacity for the purpose of making capacity payments hereunder. </a:t>
            </a:r>
            <a:endParaRPr b="0" lang="en-US" sz="14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ility Test Continued</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and the Off-taker agree to the schedule and the procedure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V pays for the availability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pacity test shortly after commercial op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Te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s of Availability Risk and Te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should be brought to full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Weather Conditions and Fuel Quality Data</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of Outages</a:t>
            </a:r>
            <a:endParaRPr b="1" lang="en-US" sz="2000" spc="-1" strike="noStrike">
              <a:solidFill>
                <a:srgbClr val="000000"/>
              </a:solidFill>
              <a:latin typeface="Arial"/>
            </a:endParaRPr>
          </a:p>
        </p:txBody>
      </p:sp>
      <p:sp>
        <p:nvSpPr>
          <p:cNvPr id="2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y: Marginal Value of Energy and Outage During Hour of Outa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Problem of Valuing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approach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er Metho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Lost Supply</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upply Cu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Season of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Hydro Availabil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amount of Surplus Capacity</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pectives in IPP Analysis</a:t>
            </a:r>
            <a:endParaRPr b="1" lang="en-US" sz="2000" spc="-1" strike="noStrike">
              <a:solidFill>
                <a:srgbClr val="000000"/>
              </a:solidFill>
              <a:latin typeface="Arial"/>
            </a:endParaRPr>
          </a:p>
        </p:txBody>
      </p:sp>
      <p:sp>
        <p:nvSpPr>
          <p:cNvPr id="106" name=""/>
          <p:cNvSpPr txBox="1"/>
          <p:nvPr/>
        </p:nvSpPr>
        <p:spPr>
          <a:xfrm>
            <a:off x="762120" y="121932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ta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 of PPA Bid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Risk Allocatio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s Analysis and Mitig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Capacity and Debt Structur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 Analysi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r and Spons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PPA Bids with Alternative Financial Structure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 and upside</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o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A Price versus Competitive Price</a:t>
            </a:r>
            <a:endParaRPr b="0" lang="en-US" sz="14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Factor Risk and Heat Rates</a:t>
            </a:r>
            <a:endParaRPr b="1" lang="en-US" sz="2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Capacity Factor Incentives for Different Types of Plants</a:t>
            </a:r>
            <a:endParaRPr b="1" lang="en-US" sz="2000" spc="-1" strike="noStrike">
              <a:solidFill>
                <a:srgbClr val="000000"/>
              </a:solidFill>
              <a:latin typeface="Arial"/>
            </a:endParaRPr>
          </a:p>
        </p:txBody>
      </p:sp>
      <p:sp>
        <p:nvSpPr>
          <p:cNvPr id="23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able Pl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out of control of the SPV</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be available when called for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ispatchab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to Locate Plants near best Resour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SPV Risk with and with Capacity Factor Risk</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t Rate Terms</a:t>
            </a:r>
            <a:endParaRPr b="1" lang="en-US" sz="2000" spc="-1" strike="noStrike">
              <a:solidFill>
                <a:srgbClr val="000000"/>
              </a:solidFill>
              <a:latin typeface="Arial"/>
            </a:endParaRPr>
          </a:p>
        </p:txBody>
      </p:sp>
      <p:sp>
        <p:nvSpPr>
          <p:cNvPr id="23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aranteed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Heating Value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Heating Value Heat Rate</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Quality and Heat Rate</a:t>
            </a:r>
            <a:endParaRPr b="1" lang="en-US" sz="2000" spc="-1" strike="noStrike">
              <a:solidFill>
                <a:srgbClr val="000000"/>
              </a:solidFill>
              <a:latin typeface="Arial"/>
            </a:endParaRPr>
          </a:p>
        </p:txBody>
      </p:sp>
      <p:sp>
        <p:nvSpPr>
          <p:cNvPr id="2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in fuel quality can affect the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an have different heating val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quality should be defined in the fuel supply agree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Curves</a:t>
            </a:r>
            <a:endParaRPr b="1" lang="en-US" sz="2000" spc="-1" strike="noStrike">
              <a:solidFill>
                <a:srgbClr val="000000"/>
              </a:solidFill>
              <a:latin typeface="Arial"/>
            </a:endParaRPr>
          </a:p>
        </p:txBody>
      </p:sp>
      <p:sp>
        <p:nvSpPr>
          <p:cNvPr id="23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lant is dispatched at different levels, the target heat rate should change</a:t>
            </a:r>
            <a:endParaRPr b="0" lang="en-US" sz="1800" spc="-1" strike="noStrike">
              <a:solidFill>
                <a:srgbClr val="000000"/>
              </a:solidFill>
              <a:latin typeface="Arial"/>
            </a:endParaRPr>
          </a:p>
        </p:txBody>
      </p:sp>
      <p:pic>
        <p:nvPicPr>
          <p:cNvPr id="240" name="Picture 2" descr=""/>
          <p:cNvPicPr/>
          <p:nvPr/>
        </p:nvPicPr>
        <p:blipFill>
          <a:blip r:embed="rId1"/>
          <a:stretch/>
        </p:blipFill>
        <p:spPr>
          <a:xfrm>
            <a:off x="1676520" y="2286000"/>
            <a:ext cx="5521320" cy="335268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nsation from Marginal and Average Heat Rate</a:t>
            </a:r>
            <a:endParaRPr b="1" lang="en-US" sz="2000" spc="-1" strike="noStrike">
              <a:solidFill>
                <a:srgbClr val="000000"/>
              </a:solidFill>
              <a:latin typeface="Arial"/>
            </a:endParaRPr>
          </a:p>
        </p:txBody>
      </p:sp>
      <p:sp>
        <p:nvSpPr>
          <p:cNvPr id="24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dispatch should reflect the marginal heat r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the additional fuel used when additional energy is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s should be dispatched on a portfolio basis after they are commit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th lowest marginal heat rate should be dispatched fir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nsation should be on the basis of average heat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heat rate measures the total fuel used relative to the total energy produc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ensation is based on the marginal heat rate, added revenues should be collected through the capacity payment</a:t>
            </a:r>
            <a:endParaRPr b="0" lang="en-US" sz="1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Incremental and Average Heat Rate</a:t>
            </a:r>
            <a:endParaRPr b="1" lang="en-US" sz="2000" spc="-1" strike="noStrike">
              <a:solidFill>
                <a:srgbClr val="000000"/>
              </a:solidFill>
              <a:latin typeface="Arial"/>
            </a:endParaRPr>
          </a:p>
        </p:txBody>
      </p:sp>
      <p:pic>
        <p:nvPicPr>
          <p:cNvPr id="244" name="Picture 2" descr=""/>
          <p:cNvPicPr/>
          <p:nvPr/>
        </p:nvPicPr>
        <p:blipFill>
          <a:blip r:embed="rId1"/>
          <a:stretch/>
        </p:blipFill>
        <p:spPr>
          <a:xfrm>
            <a:off x="1270080" y="1523880"/>
            <a:ext cx="6603840" cy="4572000"/>
          </a:xfrm>
          <a:prstGeom prst="rect">
            <a:avLst/>
          </a:prstGeom>
          <a:ln w="0">
            <a:noFill/>
          </a:ln>
        </p:spPr>
      </p:pic>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Heat Rate Degradation</a:t>
            </a:r>
            <a:endParaRPr b="1" lang="en-US" sz="2000" spc="-1" strike="noStrike">
              <a:solidFill>
                <a:srgbClr val="000000"/>
              </a:solidFill>
              <a:latin typeface="Arial"/>
            </a:endParaRPr>
          </a:p>
        </p:txBody>
      </p:sp>
      <p:pic>
        <p:nvPicPr>
          <p:cNvPr id="246" name="Picture 2" descr=""/>
          <p:cNvPicPr/>
          <p:nvPr/>
        </p:nvPicPr>
        <p:blipFill>
          <a:blip r:embed="rId1"/>
          <a:stretch/>
        </p:blipFill>
        <p:spPr>
          <a:xfrm>
            <a:off x="4648320" y="2590920"/>
            <a:ext cx="4227480" cy="3073320"/>
          </a:xfrm>
          <a:prstGeom prst="rect">
            <a:avLst/>
          </a:prstGeom>
          <a:ln w="0">
            <a:noFill/>
          </a:ln>
        </p:spPr>
      </p:pic>
      <p:pic>
        <p:nvPicPr>
          <p:cNvPr id="247" name="Picture 4" descr=""/>
          <p:cNvPicPr/>
          <p:nvPr/>
        </p:nvPicPr>
        <p:blipFill>
          <a:blip r:embed="rId2"/>
          <a:stretch/>
        </p:blipFill>
        <p:spPr>
          <a:xfrm>
            <a:off x="228600" y="2514600"/>
            <a:ext cx="4343400" cy="31575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Charges</a:t>
            </a:r>
            <a:endParaRPr b="1" lang="en-US" sz="2000" spc="-1" strike="noStrike">
              <a:solidFill>
                <a:srgbClr val="000000"/>
              </a:solidFill>
              <a:latin typeface="Arial"/>
            </a:endParaRPr>
          </a:p>
        </p:txBody>
      </p:sp>
      <p:sp>
        <p:nvSpPr>
          <p:cNvPr id="2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ectric Energy Charge. For each hour during that Month, an amount equal to the product of the Electric Energy (expressed in MWh) sold to Buyer under this Agreement during such hour, multiplied by $/MWh applicable to the Dispatch level of a Committed Unit set forth below:</a:t>
            </a:r>
            <a:endParaRPr b="0" lang="en-US" sz="18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Wh                     Dispatch Level</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00/MWh                     10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00/MWh                      9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00/MWh                      8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50/MWh                      70%</a:t>
            </a:r>
            <a:endParaRPr b="0" lang="en-US" sz="1200" spc="-1" strike="noStrike">
              <a:solidFill>
                <a:srgbClr val="000000"/>
              </a:solidFill>
              <a:latin typeface="Arial"/>
            </a:endParaRPr>
          </a:p>
          <a:p>
            <a:pPr marL="231840" indent="-173160">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00/MWh                      60%</a:t>
            </a:r>
            <a:endParaRPr b="0" lang="en-US" sz="12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Dispatch levels between the above percentages, the prices will be         prorated to the proportionate level between the points in the table.  The Dispatch level will be determined by the Dispatch level requested by Buyer for such hou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Mechanics</a:t>
            </a:r>
            <a:endParaRPr b="1" lang="en-US" sz="2000" spc="-1" strike="noStrike">
              <a:solidFill>
                <a:srgbClr val="000000"/>
              </a:solidFill>
              <a:latin typeface="Arial"/>
            </a:endParaRPr>
          </a:p>
        </p:txBody>
      </p:sp>
      <p:sp>
        <p:nvSpPr>
          <p:cNvPr id="25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ed Fuel Demand in MMBTU  =  </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 over hours (Energy in MWH x Energy x Contract Heat Rate (BTU/kWh) *  Correction Factor ) / 1,000,000</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of Specific Net Heat Rate, applicable for each respective hour depends on operating conditions, and level of the plant that is dispatched</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factor depends 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and other weather conditions</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table with different correction factor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acity dispatched</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 heat rate table or heat rate curve</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quality</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djustment factors</a:t>
            </a:r>
            <a:endParaRPr b="0" lang="en-US" sz="1200" spc="-1" strike="noStrike">
              <a:solidFill>
                <a:srgbClr val="000000"/>
              </a:solidFill>
              <a:latin typeface="Arial"/>
            </a:endParaRPr>
          </a:p>
          <a:p>
            <a:pPr lvl="1" marL="855720" indent="-289080">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08"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Heat Rate Formula</a:t>
            </a:r>
            <a:endParaRPr b="1" lang="en-US" sz="2000" spc="-1" strike="noStrike">
              <a:solidFill>
                <a:srgbClr val="000000"/>
              </a:solidFill>
              <a:latin typeface="Arial"/>
            </a:endParaRPr>
          </a:p>
        </p:txBody>
      </p:sp>
      <p:sp>
        <p:nvSpPr>
          <p:cNvPr id="253" name=""/>
          <p:cNvSpPr txBox="1"/>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compensation for different levels of dispatch which would be distorted from a constan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constant heat rate there is an incentive to dispatch too much when the marginal heat rate is low and too little when the marginal heat rate is hig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necessity of fuel price risk where fuel is supplied by government</a:t>
            </a:r>
            <a:endParaRPr b="0" lang="en-US" sz="1600" spc="-1" strike="noStrike">
              <a:solidFill>
                <a:srgbClr val="000000"/>
              </a:solidFill>
              <a:latin typeface="Arial"/>
            </a:endParaRPr>
          </a:p>
        </p:txBody>
      </p:sp>
      <p:sp>
        <p:nvSpPr>
          <p:cNvPr id="254" name=""/>
          <p:cNvSpPr txBox="1"/>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heat rate curve differs from the marginal heat rate curv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s potential for economic inefficiency if the actual level of the heat rate is different from the target lev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fuel price to determine penalties when the  actual heat rate does not equal the target heat rat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formula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 on Heat Rate</a:t>
            </a:r>
            <a:endParaRPr b="1" lang="en-US" sz="2000" spc="-1" strike="noStrike">
              <a:solidFill>
                <a:srgbClr val="000000"/>
              </a:solidFill>
              <a:latin typeface="Arial"/>
            </a:endParaRPr>
          </a:p>
        </p:txBody>
      </p:sp>
      <p:sp>
        <p:nvSpPr>
          <p:cNvPr id="2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ing any liquidated damages related to Commercial Net Heat Rate, Commercial Net Heat Rate shall be averaged (with separate averages for natural gas and fuel oil) for the six Units (based upon the final Performance Tests for each Unit) as adjusted for transformer losses, auxiliary loads and balance of plant restrictions determined during the tests for Plant Commercial Operation, and liquidated damages, if any, shall be computed based upon the per Unit average Commercial Net Heat Rate for natural gas and fuel oil.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the computation of liquidated damages for net heat rate of the entire Plant, Contractor shall, at such times as are provided in this Agreement, pay to Owner liquidated damages of</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VE THOUSAND EIGHT HUNDRED SIXTY DOLLARS ($5,860) per BTU/KW-HR for each BTU/KW-HR that the net heat rate of a Unit exceeds Ten Thousand Six Hundred Eighty Three  (10,683) BTU/KW-HR (HHV) when operated on natural gas,</a:t>
            </a:r>
            <a:endParaRPr b="0" lang="en-US" sz="1400" spc="-1" strike="noStrike">
              <a:solidFill>
                <a:srgbClr val="000000"/>
              </a:solidFill>
              <a:latin typeface="Arial"/>
            </a:endParaRPr>
          </a:p>
          <a:p>
            <a:pPr lvl="1" marL="855720" indent="-2890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s NINE HUNDRED FIFTY DOLLARS ($950) per BTU/KW-HR  for each BTU/KW-HR that the net heat rate of a Unit exceeds Ten Thousand Eight Hundred  Twenty One (10,821) BTU/KW-HR (HHV) when operated on fuel oil, as measured in the most recent Performance Tests for such Unit.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or shall have the right to retest.  Contractor's total aggregate liability for liquidated damages shall not exceed twenty two and one half percent (22 1/2%) of the Guaranteed Lump Sum Price.</a:t>
            </a:r>
            <a:endParaRPr b="0" lang="en-US" sz="14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fficiencies from Using Target Data Rather than Actual Data</a:t>
            </a:r>
            <a:endParaRPr b="1" lang="en-US" sz="2000" spc="-1" strike="noStrike">
              <a:solidFill>
                <a:srgbClr val="000000"/>
              </a:solidFill>
              <a:latin typeface="Arial"/>
            </a:endParaRPr>
          </a:p>
        </p:txBody>
      </p:sp>
      <p:sp>
        <p:nvSpPr>
          <p:cNvPr id="2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from Target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ctual Cost is Above Target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be dispatched too mu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will lose money on dispatc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arget Cost is Below Actual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will not dispatch enoug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could be reduc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roblem Occurs from Heat Rate</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uction Cost and Operations and Maintenance Cost Risk</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Risk Allocation </a:t>
            </a:r>
            <a:endParaRPr b="1" lang="en-US" sz="2000" spc="-1" strike="noStrike">
              <a:solidFill>
                <a:srgbClr val="000000"/>
              </a:solidFill>
              <a:latin typeface="Arial"/>
            </a:endParaRPr>
          </a:p>
        </p:txBody>
      </p:sp>
      <p:sp>
        <p:nvSpPr>
          <p:cNvPr id="2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ly an LSTK contract, cost-over run, delay risk and performance risk are transferred from the SPV (project company) to the EPC contr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should be compensated for accepting these ris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mium for an LSTK contract depends in theory on the potential for cost over-runs, delays and problems with perform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NGCC, the rule of thumb is about 15%-20%.</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Operation Cost Breakdown for Alternative Plants</a:t>
            </a:r>
            <a:endParaRPr b="1" lang="en-US" sz="2000" spc="-1" strike="noStrike">
              <a:solidFill>
                <a:srgbClr val="000000"/>
              </a:solidFill>
              <a:latin typeface="Arial"/>
            </a:endParaRPr>
          </a:p>
        </p:txBody>
      </p:sp>
      <p:sp>
        <p:nvSpPr>
          <p:cNvPr id="26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cost dat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20% premium for LSTK contr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levelized cost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 of total cost related to capit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sm Bias in cost esti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Issue – should construction cost risk be compensated in the equity IRR if all bidders use LSTK contracts and cost is already increased for construction.</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Trends in Natural Gas Plants</a:t>
            </a:r>
            <a:endParaRPr b="1" lang="en-US" sz="2000" spc="-1" strike="noStrike">
              <a:solidFill>
                <a:srgbClr val="000000"/>
              </a:solidFill>
              <a:latin typeface="Arial"/>
            </a:endParaRPr>
          </a:p>
        </p:txBody>
      </p:sp>
      <p:pic>
        <p:nvPicPr>
          <p:cNvPr id="265" name="Picture 2" descr=""/>
          <p:cNvPicPr/>
          <p:nvPr/>
        </p:nvPicPr>
        <p:blipFill>
          <a:blip r:embed="rId1"/>
          <a:stretch/>
        </p:blipFill>
        <p:spPr>
          <a:xfrm>
            <a:off x="1316160" y="1523880"/>
            <a:ext cx="651168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67"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6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ing Risk and Delays in Construction</a:t>
            </a:r>
            <a:endParaRPr b="1" lang="en-US" sz="2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and Technical Change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es of scale in generation occurred at individual plants, meaning it was more efficient to build big plants.  Somewhere around the 1970’s this changed and it was clear that small plants could be effici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ead times and high capital intensity for construction plants such as nuclear plants require stability of regulation or government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natural gas plants became much more efficient (the heat rates declined by 30%).  With relatively low oil and natural gas prices, the natural gas combined cycle plants were more efficient than other plants at a range of capacity fac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gas plants are less capital intensive than other plants meaning the relative deployment of capital is les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Cost of Delay</a:t>
            </a:r>
            <a:endParaRPr b="1" lang="en-US" sz="2000" spc="-1" strike="noStrike">
              <a:solidFill>
                <a:srgbClr val="000000"/>
              </a:solidFill>
              <a:latin typeface="Arial"/>
            </a:endParaRPr>
          </a:p>
        </p:txBody>
      </p:sp>
      <p:sp>
        <p:nvSpPr>
          <p:cNvPr id="27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prices in different month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ility of prices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value of capacity in different seas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ed Damages for Delay in PPA Contract</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ther than as a result of a Force Majeure Event, the SPV fails to achieve PCOD on or before the Scheduled Project Commercial Operation Date, the Project is liable to the off-taker for liquidated damages at a rate of 255 USD per MW for each day of delay based on the difference between the Contracted Capacity for the Scheduled Project Commercial Operation Date and the aggregate amount of the Contracted Capacity of the Group or Groups that have achieved their Commercial Operation Date at the Scheduled Project Commercial Operation Date, for the period from the Scheduled Project Commercial Operation Date until the earlier to occur of the Project Commercial Operation Date and the Long Stop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ng Stop Date is a date that is 300 days after the Scheduled Project Commercial Operation Dat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company has the right to terminate the PPA</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cillary Services</a:t>
            </a:r>
            <a:endParaRPr b="1" lang="en-US" sz="2000" spc="-1" strike="noStrike">
              <a:solidFill>
                <a:srgbClr val="000000"/>
              </a:solidFill>
              <a:latin typeface="Arial"/>
            </a:endParaRPr>
          </a:p>
        </p:txBody>
      </p:sp>
      <p:sp>
        <p:nvSpPr>
          <p:cNvPr id="27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f Ancillary Serv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ing Reserv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Capacity versus Dispatched Capac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Sta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Reserves</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for Off-takers</a:t>
            </a:r>
            <a:endParaRPr b="1" lang="en-US" sz="2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PPA Contracts and Leases</a:t>
            </a:r>
            <a:endParaRPr b="1" lang="en-US" sz="2000" spc="-1" strike="noStrike">
              <a:solidFill>
                <a:srgbClr val="000000"/>
              </a:solidFill>
              <a:latin typeface="Arial"/>
            </a:endParaRPr>
          </a:p>
        </p:txBody>
      </p:sp>
      <p:sp>
        <p:nvSpPr>
          <p:cNvPr id="2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term power purchase agreement (PPA) often will be necessary to secure project finance for the plant on economic term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each PPA will be analysed according to its precise terms, those PPAs that provide for a “full payout” of the capital costs over the term of the PPA are likely to have characteristics of a finance l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ease is a finance lease when substantially all of the risks and rewards of owning the leased asset are transferred from the lessor to the lessee. An operating lease is a lease other than a finance leas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finance lease, the lessor recognises a finance lease receivable and the lessee recognises the leased asset and a liability for future payments. An operating lease is accounted for like an executory contract and the lessee does not recognise the asset. </a:t>
            </a: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teria for Lease Accounting</a:t>
            </a:r>
            <a:endParaRPr b="1" lang="en-US" sz="20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IFRIC 4 a lease exists if any of the following conditions is me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operate the asset or to direct how others should operate the asset, and at the same time obtains or controls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rchaser has the ability or right to control physical access to the asset, while obtaining or controlling more than an insignificant amount of the asset’s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that another party will take more than an insignificant amount of the asset’s output during the term of the arrangement is remote, and the price paid by the purchaser for the output is neither a contractually fixed price per unit of output, nor the market price per unit of outpu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n arrangement contains a lease and a service component, IFRIC 4 requires the separation of payments between the two components on the basis of their relative fair value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s to Off-takers</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PPAs essentially represent substitutes for direct, debt-financed, capital investments for the buyers of electricity. In a sense, an off-taker that has entered into a PPA has contracted with a supplier to make the financial investment on its behalf and a PPA capacity payment is like a lease 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PA also shifts various risks to the supplier, such as construction risk and most of the operating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esult, the principal risk borne by the off-taker that relies on PPAs is the recovery of the financial obligation in rate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t is the off-taker that must of course make these payments, to the extent that regulators have structured recovery to assign the burden to ratepayers, the utilities' risk diminishes.</a:t>
            </a:r>
            <a:endParaRPr b="0" lang="en-US" sz="18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ments for Risk to Purchasing Entities</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PPAs as financial obligations that electric utilities incur when they elect to purchase rather than build their own capacity, and this obligation has affected our view of utilities' creditworthin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applies a "risk factor" of 0% to 100% to the net present value (NPV) of the PPA capacity payments, and capitalized this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100%, all risk related to contractual obligations rests on the company with no mitigating regulatory or legislative suppor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ely, a 0% risk factor indicates that the burden of the contractual payments rests solely with ratepay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mechanisms have largely performed as intended, and related write-offs have proven to be very low.</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Risk Adjustment</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guidelines for utilities whose capacity payments are recovered in base rates provides for the application of a 50% risk factor to the NPV of the capacity pay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PV is calculated using the utility's average cost of debt (excluding securitization debt), rather than the standardized 10% discount rate used previousl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urposes of adjusting cash flow measures (interest coverage ratio, funds from operations to debt etc.), implied interest expense is calculated on the imputed debt amou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complished by applying the average cost of debt to the relevant year's imputed debt level. </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djustment and Fuel Adjustment Clause</a:t>
            </a:r>
            <a:endParaRPr b="1" lang="en-US" sz="2000" spc="-1" strike="noStrike">
              <a:solidFill>
                <a:srgbClr val="000000"/>
              </a:solidFill>
              <a:latin typeface="Arial"/>
            </a:endParaRPr>
          </a:p>
        </p:txBody>
      </p:sp>
      <p:sp>
        <p:nvSpPr>
          <p:cNvPr id="28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PPA capacity costs were recovered through a fuel adjustment clause (FAC), as compared with base rate recovery, a risk factor of 30% was generally used in lieu of the 50% risk fa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view the recovery of the capacity component of a PPA through a FAC as providing greater certainty and timeliness than recovery through a base rate mechanism. (The base rate mechanism generally has greater potential for under-recovery due to variations in volume sales and fluctuations in fuel prices over tim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effectiveness of FAC mechanisms, we will adjust modestly the risk factor of 30% down to 25%.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ose instances where recovery of PPA-related capacity costs is guaranteed by a legislative mechanism, the level of the risk factor will be determined by the timeliness provided by the legislative true-up mechanism. The strength of the mechanism can result in risk factors as low as 0% because legislatively prescribed recovery mechanisms are viewed as providing utilities with a greater level of protection than that provided by regulatory orders. </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Usain Bolt</cp:lastModifiedBy>
  <cp:lastPrinted>1999-07-15T13:20:36Z</cp:lastPrinted>
  <dcterms:modified xsi:type="dcterms:W3CDTF">2013-02-08T14:08:56Z</dcterms:modified>
  <cp:revision>1173</cp:revision>
  <dc:subject/>
  <dc:title>Project Finance</dc:title>
</cp:coreProperties>
</file>